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1C5-C849-4D38-A570-CA5D491D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768-4128-427C-9636-BDCC579E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24E-4796-440D-A2E3-BA3CC012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E16-1E4F-48D0-8213-3C125BE5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689-0FB4-4AC4-A061-73FE8A6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497-42BD-4F96-A95C-4BE24C24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DFF-4923-49DE-B959-6630A3F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ACC-E522-4A43-9508-8C7501D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0DF-17AF-4616-B33D-F5BDFE5A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091-1D4F-4F49-8A57-4557B8D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0E3-476E-4CCA-A35E-165576A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06E-E297-48ED-BB8D-6E08F6E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1447920"/>
            <a:ext cx="7619760" cy="5410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25148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DD5-4B49-439B-89A4-35EEEB9963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d&amp;m%20Logo%20dunkelgrün" descr=""/>
          <p:cNvPicPr/>
          <p:nvPr/>
        </p:nvPicPr>
        <p:blipFill>
          <a:blip r:embed="rId2"/>
          <a:stretch/>
        </p:blipFill>
        <p:spPr>
          <a:xfrm>
            <a:off x="7358040" y="358920"/>
            <a:ext cx="1698480" cy="103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36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4559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447920"/>
            <a:ext cx="7619760" cy="5410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aim%20schwarz" descr=""/>
          <p:cNvPicPr/>
          <p:nvPr/>
        </p:nvPicPr>
        <p:blipFill>
          <a:blip r:embed="rId2"/>
          <a:stretch/>
        </p:blipFill>
        <p:spPr>
          <a:xfrm>
            <a:off x="1968480" y="3505320"/>
            <a:ext cx="5486400" cy="1927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8938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8557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81756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8175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8175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laus von Schierste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-2001, Baden-Baden, März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304920" y="393840"/>
            <a:ext cx="1143000" cy="838080"/>
            <a:chOff x="304920" y="393840"/>
            <a:chExt cx="1143000" cy="838080"/>
          </a:xfrm>
        </p:grpSpPr>
        <p:sp>
          <p:nvSpPr>
            <p:cNvPr id="497" name=""/>
            <p:cNvSpPr/>
            <p:nvPr/>
          </p:nvSpPr>
          <p:spPr>
            <a:xfrm>
              <a:off x="967680" y="448920"/>
              <a:ext cx="142560" cy="8352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8280" y="1098360"/>
              <a:ext cx="96912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5560" y="743760"/>
              <a:ext cx="128160" cy="38628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7960" y="735120"/>
              <a:ext cx="128520" cy="38664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440" y="73512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96840" y="686880"/>
              <a:ext cx="6372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2440" y="689040"/>
              <a:ext cx="532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1480" y="690840"/>
              <a:ext cx="500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3240" y="80784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040" y="801720"/>
              <a:ext cx="87840" cy="32292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7320" y="80676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87840" y="801720"/>
              <a:ext cx="88200" cy="32328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520" y="697680"/>
              <a:ext cx="5436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7520" y="547200"/>
              <a:ext cx="52812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04920" y="393840"/>
              <a:ext cx="1143000" cy="355680"/>
              <a:chOff x="304920" y="393840"/>
              <a:chExt cx="1143000" cy="355680"/>
            </a:xfrm>
          </p:grpSpPr>
          <p:sp>
            <p:nvSpPr>
              <p:cNvPr id="512" name=""/>
              <p:cNvSpPr/>
              <p:nvPr/>
            </p:nvSpPr>
            <p:spPr>
              <a:xfrm>
                <a:off x="328680" y="393840"/>
                <a:ext cx="1119240" cy="355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93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49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4920" y="396360"/>
                <a:ext cx="114300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7840" y="436320"/>
                <a:ext cx="7005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75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72960" y="69372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4760" y="743040"/>
              <a:ext cx="15048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7080" y="805320"/>
              <a:ext cx="16200" cy="27504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624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560" y="812520"/>
              <a:ext cx="19440" cy="26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680" y="810720"/>
              <a:ext cx="12168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120" y="1077480"/>
              <a:ext cx="16092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686880"/>
              <a:ext cx="16992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520" y="736200"/>
              <a:ext cx="15048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" y="79812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720" y="802800"/>
              <a:ext cx="1872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1400" y="80532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5800" y="803880"/>
              <a:ext cx="122400" cy="28872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40" y="1070640"/>
              <a:ext cx="1598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4160" y="690480"/>
              <a:ext cx="16956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6320" y="740160"/>
              <a:ext cx="15084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8640" y="802800"/>
              <a:ext cx="1692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7800" y="806400"/>
              <a:ext cx="19080" cy="27504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9120" y="808920"/>
              <a:ext cx="1980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4240" y="807480"/>
              <a:ext cx="12168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960" y="1073880"/>
              <a:ext cx="1605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10520" y="74088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95400" y="69264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96840" y="741960"/>
              <a:ext cx="15084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18800" y="80388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48680" y="80856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80000" y="811080"/>
              <a:ext cx="19440" cy="2631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05120" y="810000"/>
              <a:ext cx="122040" cy="28836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88200" y="1076040"/>
              <a:ext cx="1602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2880" y="1120320"/>
              <a:ext cx="9982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1080" y="1125720"/>
              <a:ext cx="23760" cy="1058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7040" y="623880"/>
              <a:ext cx="3168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9400" y="626040"/>
              <a:ext cx="3132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1400" y="628920"/>
              <a:ext cx="3168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3400" y="630360"/>
              <a:ext cx="3168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9720" y="629280"/>
              <a:ext cx="31680" cy="4392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6400" y="628920"/>
              <a:ext cx="3132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82720" y="628200"/>
              <a:ext cx="31680" cy="4320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5904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3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0480" y="11692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384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7200" y="1167120"/>
              <a:ext cx="7308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0200" y="1165680"/>
              <a:ext cx="7344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920" y="1164960"/>
              <a:ext cx="73440" cy="5436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8000" y="1163520"/>
              <a:ext cx="7236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0280" y="1161720"/>
              <a:ext cx="7308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3640" y="116100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6280" y="1159920"/>
              <a:ext cx="7416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9000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1193760" y="700920"/>
              <a:ext cx="155880" cy="437760"/>
              <a:chOff x="1193760" y="700920"/>
              <a:chExt cx="155880" cy="437760"/>
            </a:xfrm>
          </p:grpSpPr>
          <p:sp>
            <p:nvSpPr>
              <p:cNvPr id="569" name=""/>
              <p:cNvSpPr/>
              <p:nvPr/>
            </p:nvSpPr>
            <p:spPr>
              <a:xfrm>
                <a:off x="1207800" y="749520"/>
                <a:ext cx="118440" cy="3891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93760" y="700920"/>
                <a:ext cx="15588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94840" y="750960"/>
                <a:ext cx="13896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5720" y="813240"/>
                <a:ext cx="15120" cy="27756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42720" y="817560"/>
                <a:ext cx="17280" cy="27648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71520" y="820080"/>
                <a:ext cx="18000" cy="26460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02400" y="819360"/>
                <a:ext cx="112680" cy="29016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079280" y="1161000"/>
              <a:ext cx="7344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4440" y="1159200"/>
              <a:ext cx="73080" cy="547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3696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94840" y="1078200"/>
              <a:ext cx="14256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95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833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448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0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791320" y="2552760"/>
            <a:ext cx="1312920" cy="1676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schen: Vorgehen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50520" y="2514600"/>
            <a:ext cx="81248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lich fü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lzeit (i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tionsprinzip (1 bis 2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allen Geschäf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up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e Bera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ung für Wissensspei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prechpartner für externe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222-EB0D-4351-9D56-E292486FC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590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605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26160" y="4317840"/>
            <a:ext cx="3504960" cy="246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930240" y="2286000"/>
            <a:ext cx="78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richtung an Kerngeschäft und 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nung vor Taxonom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beziehung möglichst vieler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elmäßige Über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26080" y="4216320"/>
            <a:ext cx="3529080" cy="2436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-Wiederverwen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-Entwicklungswerkze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nban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P-Syst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2880" y="4254480"/>
            <a:ext cx="336528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9800" y="4216320"/>
            <a:ext cx="3362400" cy="2502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ations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 Pha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flächen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Architekt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E03-036B-45B0-9EF6-D8A4881D1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698400" y="3467160"/>
            <a:ext cx="777960" cy="153828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686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701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758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498680" y="2463840"/>
            <a:ext cx="6680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„lernende Organisation“ braucht für ihr Wissensmanagement eine Organisatio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gener Bereich („sd&amp;m-Technologiemanagement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 als interner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 Verantwo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und Verantwortung durch Top-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sweg des Leiters („chief knowledge officer“) an Geschäfts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kerung im gesamten Unter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 aus allen Niederlassungen und Geschäf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B26-2946-4912-AAA0-0BFA6830FB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777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792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849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558720" y="3941640"/>
          <a:ext cx="773424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41640"/>
                    <a:ext cx="77342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533520" y="226044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-Prozesse müssen sorgfältig geplan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 muß mit Kernprozessen verzahn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FBC-4E71-486D-B18D-3491788373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ologie: sd&amp;m Knowledge-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870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885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942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1308240" y="5715000"/>
            <a:ext cx="152280" cy="76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ff00"/>
          </a:solidFill>
          <a:ln w="0">
            <a:noFill/>
          </a:ln>
          <a:effectLst>
            <a:outerShdw dist="53966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825120" y="2273400"/>
            <a:ext cx="7302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technische Plattform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99"/>
              </a:spcBef>
              <a:buNone/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nach heutigem Stand der Technik ein strukturiert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guten Navigations- und Suchmöglichkeite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r und schneller Zugang für alle Mitarbeiter (deshalb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unternehmensweite Integrationsplattform für alle Arten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ban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99"/>
              </a:spcBef>
              <a:buNone/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mit einer Verzahnung zu den operativen 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186200" y="5902200"/>
            <a:ext cx="692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icht : Technik ist keine Wunderwaff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889-3553-44C6-A243-F2F44408E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des sd&amp;m K-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963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978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035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787320" y="254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re Struktur mit Rubriken und Unterrubriken, Vermeidung von Redund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-Skillverwal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ssende Suchmö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Fassaden-Prinzip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Externe Informations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Korona-Prinzip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C19-95C8-471A-B17F-B83A8417B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054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069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126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4127400" y="2666880"/>
            <a:ext cx="3276720" cy="275760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1307880" y="2502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sein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e Qu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268-C2B5-4392-8FFB-4CDF539ECC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verwaltung: wie finde ich einen Wissen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146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218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685800" y="2577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ordnung durch jeden Mitarbeiter sel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jedem Mitarbeiter frei erweiterbarer Skillb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chen kombinierbar und einschränk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ministrator konsolidiert Skillbaum regelmäß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gläserner Mitarbeiter (nur eigene Skills werden vollständig dargestel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0FF-1CBE-4C61-8750-150D47759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749160" y="114300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36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237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252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309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133-7207-4618-BA86-6E2204A9B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ntrale Such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328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343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400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50796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fassende Suchmöglichkeit über alle Arten von Dokumenten unter Berücksichtigung der Rubriken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 Benutz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etzt dutzende unterschiedlicher Suchen im Intra- und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t durch gute Strukturierung schnelle Einschätzung der Quelle und der Qu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vigation im Ergebni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end auf Search-97 von V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wichtigste Intranet-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4C0-CC41-4B12-89F1-E40725285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0560" y="3733920"/>
            <a:ext cx="1219320" cy="839520"/>
            <a:chOff x="520560" y="3733920"/>
            <a:chExt cx="1219320" cy="839520"/>
          </a:xfrm>
        </p:grpSpPr>
        <p:sp>
          <p:nvSpPr>
            <p:cNvPr id="87" name=""/>
            <p:cNvSpPr/>
            <p:nvPr/>
          </p:nvSpPr>
          <p:spPr>
            <a:xfrm>
              <a:off x="1227600" y="3788640"/>
              <a:ext cx="152280" cy="8388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8240" y="4439520"/>
              <a:ext cx="103356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6600" y="408456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3040" y="4075560"/>
              <a:ext cx="13716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60920" y="407556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8560" y="4027320"/>
              <a:ext cx="6768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1200" y="4029480"/>
              <a:ext cx="568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6200" y="4031280"/>
              <a:ext cx="536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2480" y="4148640"/>
              <a:ext cx="95040" cy="32364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5320" y="4142520"/>
              <a:ext cx="93960" cy="32328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35360" y="4147560"/>
              <a:ext cx="9504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8840" y="4142520"/>
              <a:ext cx="93960" cy="32364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" y="4038480"/>
              <a:ext cx="5832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6120" y="3887640"/>
              <a:ext cx="56340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0560" y="3733920"/>
              <a:ext cx="1219320" cy="356040"/>
              <a:chOff x="520560" y="3733920"/>
              <a:chExt cx="1219320" cy="356040"/>
            </a:xfrm>
          </p:grpSpPr>
          <p:sp>
            <p:nvSpPr>
              <p:cNvPr id="102" name=""/>
              <p:cNvSpPr/>
              <p:nvPr/>
            </p:nvSpPr>
            <p:spPr>
              <a:xfrm>
                <a:off x="545760" y="3733920"/>
                <a:ext cx="1194120" cy="35604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9320" y="3942000"/>
                <a:ext cx="1059480" cy="4608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8560" y="3809880"/>
                <a:ext cx="64980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0560" y="3736440"/>
                <a:ext cx="121932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9320" y="3776400"/>
                <a:ext cx="7473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7160" y="3938760"/>
                <a:ext cx="10659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3280" y="4034160"/>
              <a:ext cx="18036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5080" y="4083480"/>
              <a:ext cx="16056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8840" y="4145760"/>
              <a:ext cx="17280" cy="27576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0160" y="4150440"/>
              <a:ext cx="20160" cy="27504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3280" y="4153320"/>
              <a:ext cx="20880" cy="26280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360" y="4151520"/>
              <a:ext cx="129960" cy="28944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720" y="4418640"/>
              <a:ext cx="171720" cy="5616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0080" y="4027320"/>
              <a:ext cx="18108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2240" y="4077000"/>
              <a:ext cx="16056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360" y="4138920"/>
              <a:ext cx="18000" cy="27576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7680" y="4143600"/>
              <a:ext cx="20160" cy="27540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1520" y="4145760"/>
              <a:ext cx="20520" cy="26388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0880" y="4144320"/>
              <a:ext cx="130680" cy="28944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3240" y="4411800"/>
              <a:ext cx="1706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560" y="4030920"/>
              <a:ext cx="18072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4720" y="4080600"/>
              <a:ext cx="16092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8480" y="4143600"/>
              <a:ext cx="18000" cy="27504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99440" y="4147200"/>
              <a:ext cx="20520" cy="27540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32920" y="4149720"/>
              <a:ext cx="21240" cy="26388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3360" y="4148280"/>
              <a:ext cx="129600" cy="28944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35000" y="4415400"/>
              <a:ext cx="1713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3320" y="408132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57120" y="4033080"/>
              <a:ext cx="18036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58560" y="4082760"/>
              <a:ext cx="16092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2320" y="4144680"/>
              <a:ext cx="18000" cy="27612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14000" y="4149360"/>
              <a:ext cx="20160" cy="27504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47480" y="4151880"/>
              <a:ext cx="2088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7560" y="4150800"/>
              <a:ext cx="130320" cy="28872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49560" y="4417200"/>
              <a:ext cx="1710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2480" y="4461480"/>
              <a:ext cx="10648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320" y="4467240"/>
              <a:ext cx="255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680" y="3964320"/>
              <a:ext cx="3384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720" y="3966480"/>
              <a:ext cx="3348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400" y="3969360"/>
              <a:ext cx="3384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2080" y="3971160"/>
              <a:ext cx="3384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3800" y="3969720"/>
              <a:ext cx="3384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5520" y="3969360"/>
              <a:ext cx="3348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6880" y="3968280"/>
              <a:ext cx="3384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8600" y="396756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032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680" y="4510800"/>
              <a:ext cx="7776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360" y="4510080"/>
              <a:ext cx="7776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9040" y="4508640"/>
              <a:ext cx="7812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6360" y="4507200"/>
              <a:ext cx="7812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040" y="4506120"/>
              <a:ext cx="78480" cy="5472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2440" y="4505040"/>
              <a:ext cx="7704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9040" y="4503240"/>
              <a:ext cx="7776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720" y="4502520"/>
              <a:ext cx="7776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3680" y="4501080"/>
              <a:ext cx="7920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720" y="4500360"/>
              <a:ext cx="78120" cy="5508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468440" y="4041360"/>
              <a:ext cx="166320" cy="438480"/>
              <a:chOff x="1468440" y="4041360"/>
              <a:chExt cx="166320" cy="438480"/>
            </a:xfrm>
          </p:grpSpPr>
          <p:sp>
            <p:nvSpPr>
              <p:cNvPr id="159" name=""/>
              <p:cNvSpPr/>
              <p:nvPr/>
            </p:nvSpPr>
            <p:spPr>
              <a:xfrm>
                <a:off x="1483200" y="4089960"/>
                <a:ext cx="126360" cy="38988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68440" y="4041360"/>
                <a:ext cx="166320" cy="5796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69520" y="4091400"/>
                <a:ext cx="14832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91840" y="4153680"/>
                <a:ext cx="16200" cy="27792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20640" y="4158000"/>
                <a:ext cx="18360" cy="27684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1600" y="4160880"/>
                <a:ext cx="19080" cy="26496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77440" y="4159800"/>
                <a:ext cx="12024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346760" y="4502520"/>
              <a:ext cx="7848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6240" y="4500360"/>
              <a:ext cx="77760" cy="5508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4880" y="4500360"/>
              <a:ext cx="78480" cy="5508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69520" y="4419360"/>
              <a:ext cx="15228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880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64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868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4720" y="2171880"/>
            <a:ext cx="546120" cy="1176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1800" y="4927680"/>
            <a:ext cx="415800" cy="126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6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um Wissensmanagement bei sd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5 Säulen des Wissensmanagement bei sd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esserungen durch den Einsatz von Ontolo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205-E1DF-4768-8465-9153D8D48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r Suche nac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81000" y="2349360"/>
            <a:ext cx="731196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en, Architekturen, Produktbewertungen, Mitarbeiter, Projekte, Organisationseinheit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Meist finden wi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lös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omplexe Taxonom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r, Wissensgebiet, Dokumentart, Schlüsselworte ... werden ange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es gibt keine gemeingültige Taxonomie fü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Doku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Ablagen haben unterschiedliche Taxonom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übergreifende Suchen (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kein übergreifendes Finden)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5E5-6654-46BF-97FA-6C64FD7B5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auf der Suche nac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03440" y="247644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e mit Erfahrung zu einem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 mit Wissen zu einem 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architektur zu einem technologischen Umf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e Spezifikation als Vor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e nach Mitarbeitern oder Pro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CF0-0DA0-4E37-928D-C19B24C644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1 : Struktur der Dokumentenabla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Ontolog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781280" y="219708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140760" indent="-140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nst Den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us von Schierste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fan Schei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DB-IAS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IANZ-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YWA-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B-D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C-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ionsei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78E-970E-4C2C-A4C4-225D72B2F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2 : Unterstruktur der Projek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Elemente eines Knot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552680" y="247644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rzbezei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ena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Dokumente im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1CF-9130-4C57-A6E7-B2FA44B9F1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 3 : Suchstrategi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(Inferen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03160" y="2438280"/>
            <a:ext cx="74646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b alle Projekte aus, zu denen in Dokumenten ein bestimmter Suchstring gefund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tierung n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1 : Stammdaten(Projektbeschreibung, Techinfo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2 : Projektdokumente (Steckbrief, Angebot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3 : „freiwillige“ Projektdokumente (Home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4 : weitere Dokumente im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ichtung : Anzahl der relevanten 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gebnis : Projek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A89-4D30-4259-A7BD-786685E38E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 4 : Skill-Baum als On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552680" y="250200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killbaum wird als 2. Ontologie verwe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noten des Skill-Baumes werden erweitert um veränderte Schreibweisen, Synonyme, Übersetzungen, Begriffsdefinition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uche erfolgt nicht nur über einen Knoten mit seinen Synonymen, sondern auch über die Ober- und Unterbe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r Such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3F7-2A42-4FC0-A69A-DC2BD6EEF4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73200" y="0"/>
            <a:ext cx="789948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003-FAAC-4DB1-9DE9-3F0C2448D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266760" y="0"/>
            <a:ext cx="8661240" cy="68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86F-5C0E-4FF0-870A-4D263B587B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019160" y="2413080"/>
            <a:ext cx="737568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sensmanagement kostet G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ung durch das Top-Management ist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zahnung mit der gesamten Firma ist unverzicht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der operativen Systeme hilft ,aktuell zu blei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Einsatz einer einfachen stabilen Struktur (Ontologie) als Dokumentablage hat sich bewä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inhaltliche Struktur (2. Ontologie) sollte losgelöst von den Dokumenten entwickel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D0A-6849-4FF8-9F64-1C2CBA4741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laus von Schierste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-2001, Baden-Baden, März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auf einen 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etroit%20mit%20US-Flagge" descr=""/>
          <p:cNvPicPr/>
          <p:nvPr/>
        </p:nvPicPr>
        <p:blipFill>
          <a:blip r:embed="rId1">
            <a:lum contrast="-4000"/>
          </a:blip>
          <a:srcRect l="0" t="0" r="0" b="34316"/>
          <a:stretch/>
        </p:blipFill>
        <p:spPr>
          <a:xfrm>
            <a:off x="4191120" y="2336760"/>
            <a:ext cx="10666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schweiz" descr=""/>
          <p:cNvPicPr/>
          <p:nvPr/>
        </p:nvPicPr>
        <p:blipFill>
          <a:blip r:embed="rId2"/>
          <a:stretch/>
        </p:blipFill>
        <p:spPr>
          <a:xfrm>
            <a:off x="5267160" y="627372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268520" y="287352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83080" y="1887480"/>
            <a:ext cx="3956040" cy="4548240"/>
            <a:chOff x="4483080" y="1887480"/>
            <a:chExt cx="3956040" cy="4548240"/>
          </a:xfrm>
        </p:grpSpPr>
        <p:grpSp>
          <p:nvGrpSpPr>
            <p:cNvPr id="183" name=""/>
            <p:cNvGrpSpPr/>
            <p:nvPr/>
          </p:nvGrpSpPr>
          <p:grpSpPr>
            <a:xfrm>
              <a:off x="4711680" y="1887480"/>
              <a:ext cx="3376800" cy="3972600"/>
              <a:chOff x="4711680" y="1887480"/>
              <a:chExt cx="3376800" cy="39726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711680" y="1985760"/>
                <a:ext cx="3376800" cy="3874320"/>
                <a:chOff x="4711680" y="1985760"/>
                <a:chExt cx="3376800" cy="3874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121440" y="2679120"/>
                  <a:ext cx="244440" cy="169560"/>
                </a:xfrm>
                <a:custGeom>
                  <a:avLst/>
                  <a:gdLst/>
                  <a:ahLst/>
                  <a:rect l="l" t="t" r="r" b="b"/>
                  <a:pathLst>
                    <a:path w="154" h="107">
                      <a:moveTo>
                        <a:pt x="114" y="0"/>
                      </a:moveTo>
                      <a:lnTo>
                        <a:pt x="119" y="24"/>
                      </a:lnTo>
                      <a:lnTo>
                        <a:pt x="119" y="38"/>
                      </a:lnTo>
                      <a:lnTo>
                        <a:pt x="118" y="54"/>
                      </a:lnTo>
                      <a:lnTo>
                        <a:pt x="124" y="81"/>
                      </a:lnTo>
                      <a:lnTo>
                        <a:pt x="154" y="102"/>
                      </a:lnTo>
                      <a:lnTo>
                        <a:pt x="131" y="107"/>
                      </a:lnTo>
                      <a:lnTo>
                        <a:pt x="113" y="102"/>
                      </a:lnTo>
                      <a:lnTo>
                        <a:pt x="98" y="93"/>
                      </a:lnTo>
                      <a:lnTo>
                        <a:pt x="80" y="89"/>
                      </a:lnTo>
                      <a:lnTo>
                        <a:pt x="66" y="102"/>
                      </a:lnTo>
                      <a:lnTo>
                        <a:pt x="48" y="106"/>
                      </a:lnTo>
                      <a:lnTo>
                        <a:pt x="40" y="95"/>
                      </a:lnTo>
                      <a:lnTo>
                        <a:pt x="24" y="95"/>
                      </a:lnTo>
                      <a:lnTo>
                        <a:pt x="15" y="82"/>
                      </a:lnTo>
                      <a:lnTo>
                        <a:pt x="7" y="60"/>
                      </a:lnTo>
                      <a:lnTo>
                        <a:pt x="0" y="45"/>
                      </a:lnTo>
                      <a:lnTo>
                        <a:pt x="14" y="34"/>
                      </a:lnTo>
                      <a:lnTo>
                        <a:pt x="24" y="39"/>
                      </a:lnTo>
                      <a:lnTo>
                        <a:pt x="65" y="1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664240" y="1985760"/>
                  <a:ext cx="1093680" cy="904320"/>
                </a:xfrm>
                <a:custGeom>
                  <a:avLst/>
                  <a:gdLst/>
                  <a:ahLst/>
                  <a:rect l="l" t="t" r="r" b="b"/>
                  <a:pathLst>
                    <a:path w="689" h="570">
                      <a:moveTo>
                        <a:pt x="160" y="19"/>
                      </a:moveTo>
                      <a:lnTo>
                        <a:pt x="169" y="34"/>
                      </a:lnTo>
                      <a:lnTo>
                        <a:pt x="187" y="42"/>
                      </a:lnTo>
                      <a:lnTo>
                        <a:pt x="216" y="28"/>
                      </a:lnTo>
                      <a:lnTo>
                        <a:pt x="235" y="28"/>
                      </a:lnTo>
                      <a:lnTo>
                        <a:pt x="255" y="25"/>
                      </a:lnTo>
                      <a:lnTo>
                        <a:pt x="288" y="38"/>
                      </a:lnTo>
                      <a:lnTo>
                        <a:pt x="304" y="42"/>
                      </a:lnTo>
                      <a:lnTo>
                        <a:pt x="314" y="58"/>
                      </a:lnTo>
                      <a:lnTo>
                        <a:pt x="327" y="50"/>
                      </a:lnTo>
                      <a:lnTo>
                        <a:pt x="343" y="46"/>
                      </a:lnTo>
                      <a:lnTo>
                        <a:pt x="353" y="69"/>
                      </a:lnTo>
                      <a:lnTo>
                        <a:pt x="355" y="80"/>
                      </a:lnTo>
                      <a:lnTo>
                        <a:pt x="343" y="85"/>
                      </a:lnTo>
                      <a:lnTo>
                        <a:pt x="358" y="93"/>
                      </a:lnTo>
                      <a:lnTo>
                        <a:pt x="360" y="107"/>
                      </a:lnTo>
                      <a:lnTo>
                        <a:pt x="360" y="123"/>
                      </a:lnTo>
                      <a:lnTo>
                        <a:pt x="359" y="140"/>
                      </a:lnTo>
                      <a:lnTo>
                        <a:pt x="329" y="159"/>
                      </a:lnTo>
                      <a:lnTo>
                        <a:pt x="346" y="163"/>
                      </a:lnTo>
                      <a:lnTo>
                        <a:pt x="363" y="163"/>
                      </a:lnTo>
                      <a:lnTo>
                        <a:pt x="381" y="159"/>
                      </a:lnTo>
                      <a:lnTo>
                        <a:pt x="402" y="159"/>
                      </a:lnTo>
                      <a:lnTo>
                        <a:pt x="402" y="177"/>
                      </a:lnTo>
                      <a:lnTo>
                        <a:pt x="407" y="193"/>
                      </a:lnTo>
                      <a:lnTo>
                        <a:pt x="414" y="181"/>
                      </a:lnTo>
                      <a:lnTo>
                        <a:pt x="428" y="177"/>
                      </a:lnTo>
                      <a:lnTo>
                        <a:pt x="444" y="177"/>
                      </a:lnTo>
                      <a:lnTo>
                        <a:pt x="462" y="177"/>
                      </a:lnTo>
                      <a:lnTo>
                        <a:pt x="506" y="201"/>
                      </a:lnTo>
                      <a:lnTo>
                        <a:pt x="554" y="218"/>
                      </a:lnTo>
                      <a:lnTo>
                        <a:pt x="572" y="203"/>
                      </a:lnTo>
                      <a:lnTo>
                        <a:pt x="593" y="197"/>
                      </a:lnTo>
                      <a:lnTo>
                        <a:pt x="617" y="192"/>
                      </a:lnTo>
                      <a:lnTo>
                        <a:pt x="635" y="177"/>
                      </a:lnTo>
                      <a:lnTo>
                        <a:pt x="614" y="167"/>
                      </a:lnTo>
                      <a:lnTo>
                        <a:pt x="606" y="163"/>
                      </a:lnTo>
                      <a:lnTo>
                        <a:pt x="610" y="149"/>
                      </a:lnTo>
                      <a:lnTo>
                        <a:pt x="620" y="138"/>
                      </a:lnTo>
                      <a:lnTo>
                        <a:pt x="635" y="140"/>
                      </a:lnTo>
                      <a:lnTo>
                        <a:pt x="666" y="143"/>
                      </a:lnTo>
                      <a:lnTo>
                        <a:pt x="684" y="158"/>
                      </a:lnTo>
                      <a:lnTo>
                        <a:pt x="689" y="177"/>
                      </a:lnTo>
                      <a:lnTo>
                        <a:pt x="675" y="176"/>
                      </a:lnTo>
                      <a:lnTo>
                        <a:pt x="665" y="176"/>
                      </a:lnTo>
                      <a:lnTo>
                        <a:pt x="653" y="188"/>
                      </a:lnTo>
                      <a:lnTo>
                        <a:pt x="635" y="223"/>
                      </a:lnTo>
                      <a:lnTo>
                        <a:pt x="636" y="240"/>
                      </a:lnTo>
                      <a:lnTo>
                        <a:pt x="631" y="255"/>
                      </a:lnTo>
                      <a:lnTo>
                        <a:pt x="609" y="279"/>
                      </a:lnTo>
                      <a:lnTo>
                        <a:pt x="549" y="319"/>
                      </a:lnTo>
                      <a:lnTo>
                        <a:pt x="553" y="331"/>
                      </a:lnTo>
                      <a:lnTo>
                        <a:pt x="568" y="333"/>
                      </a:lnTo>
                      <a:lnTo>
                        <a:pt x="584" y="335"/>
                      </a:lnTo>
                      <a:lnTo>
                        <a:pt x="588" y="348"/>
                      </a:lnTo>
                      <a:lnTo>
                        <a:pt x="580" y="367"/>
                      </a:lnTo>
                      <a:lnTo>
                        <a:pt x="563" y="384"/>
                      </a:lnTo>
                      <a:lnTo>
                        <a:pt x="550" y="398"/>
                      </a:lnTo>
                      <a:lnTo>
                        <a:pt x="554" y="420"/>
                      </a:lnTo>
                      <a:lnTo>
                        <a:pt x="592" y="449"/>
                      </a:lnTo>
                      <a:lnTo>
                        <a:pt x="604" y="470"/>
                      </a:lnTo>
                      <a:lnTo>
                        <a:pt x="604" y="495"/>
                      </a:lnTo>
                      <a:lnTo>
                        <a:pt x="583" y="496"/>
                      </a:lnTo>
                      <a:lnTo>
                        <a:pt x="568" y="505"/>
                      </a:lnTo>
                      <a:lnTo>
                        <a:pt x="567" y="518"/>
                      </a:lnTo>
                      <a:lnTo>
                        <a:pt x="562" y="525"/>
                      </a:lnTo>
                      <a:lnTo>
                        <a:pt x="542" y="534"/>
                      </a:lnTo>
                      <a:lnTo>
                        <a:pt x="524" y="544"/>
                      </a:lnTo>
                      <a:lnTo>
                        <a:pt x="520" y="553"/>
                      </a:lnTo>
                      <a:lnTo>
                        <a:pt x="522" y="569"/>
                      </a:lnTo>
                      <a:lnTo>
                        <a:pt x="502" y="570"/>
                      </a:lnTo>
                      <a:lnTo>
                        <a:pt x="484" y="565"/>
                      </a:lnTo>
                      <a:lnTo>
                        <a:pt x="442" y="545"/>
                      </a:lnTo>
                      <a:lnTo>
                        <a:pt x="423" y="523"/>
                      </a:lnTo>
                      <a:lnTo>
                        <a:pt x="402" y="510"/>
                      </a:lnTo>
                      <a:lnTo>
                        <a:pt x="406" y="495"/>
                      </a:lnTo>
                      <a:lnTo>
                        <a:pt x="407" y="476"/>
                      </a:lnTo>
                      <a:lnTo>
                        <a:pt x="394" y="445"/>
                      </a:lnTo>
                      <a:lnTo>
                        <a:pt x="382" y="443"/>
                      </a:lnTo>
                      <a:lnTo>
                        <a:pt x="376" y="452"/>
                      </a:lnTo>
                      <a:lnTo>
                        <a:pt x="369" y="460"/>
                      </a:lnTo>
                      <a:lnTo>
                        <a:pt x="356" y="461"/>
                      </a:lnTo>
                      <a:lnTo>
                        <a:pt x="327" y="480"/>
                      </a:lnTo>
                      <a:lnTo>
                        <a:pt x="288" y="488"/>
                      </a:lnTo>
                      <a:lnTo>
                        <a:pt x="272" y="491"/>
                      </a:lnTo>
                      <a:lnTo>
                        <a:pt x="259" y="488"/>
                      </a:lnTo>
                      <a:lnTo>
                        <a:pt x="245" y="467"/>
                      </a:lnTo>
                      <a:lnTo>
                        <a:pt x="233" y="443"/>
                      </a:lnTo>
                      <a:lnTo>
                        <a:pt x="211" y="427"/>
                      </a:lnTo>
                      <a:lnTo>
                        <a:pt x="206" y="411"/>
                      </a:lnTo>
                      <a:lnTo>
                        <a:pt x="194" y="396"/>
                      </a:lnTo>
                      <a:lnTo>
                        <a:pt x="160" y="375"/>
                      </a:lnTo>
                      <a:lnTo>
                        <a:pt x="130" y="375"/>
                      </a:lnTo>
                      <a:lnTo>
                        <a:pt x="115" y="375"/>
                      </a:lnTo>
                      <a:lnTo>
                        <a:pt x="99" y="375"/>
                      </a:lnTo>
                      <a:lnTo>
                        <a:pt x="73" y="366"/>
                      </a:lnTo>
                      <a:lnTo>
                        <a:pt x="61" y="342"/>
                      </a:lnTo>
                      <a:lnTo>
                        <a:pt x="61" y="319"/>
                      </a:lnTo>
                      <a:lnTo>
                        <a:pt x="94" y="324"/>
                      </a:lnTo>
                      <a:lnTo>
                        <a:pt x="107" y="315"/>
                      </a:lnTo>
                      <a:lnTo>
                        <a:pt x="103" y="305"/>
                      </a:lnTo>
                      <a:lnTo>
                        <a:pt x="90" y="284"/>
                      </a:lnTo>
                      <a:lnTo>
                        <a:pt x="77" y="292"/>
                      </a:lnTo>
                      <a:lnTo>
                        <a:pt x="61" y="290"/>
                      </a:lnTo>
                      <a:lnTo>
                        <a:pt x="55" y="270"/>
                      </a:lnTo>
                      <a:lnTo>
                        <a:pt x="61" y="245"/>
                      </a:lnTo>
                      <a:lnTo>
                        <a:pt x="81" y="233"/>
                      </a:lnTo>
                      <a:lnTo>
                        <a:pt x="59" y="232"/>
                      </a:lnTo>
                      <a:lnTo>
                        <a:pt x="29" y="238"/>
                      </a:lnTo>
                      <a:lnTo>
                        <a:pt x="5" y="238"/>
                      </a:lnTo>
                      <a:lnTo>
                        <a:pt x="0" y="228"/>
                      </a:lnTo>
                      <a:lnTo>
                        <a:pt x="1" y="212"/>
                      </a:lnTo>
                      <a:lnTo>
                        <a:pt x="14" y="205"/>
                      </a:lnTo>
                      <a:lnTo>
                        <a:pt x="14" y="188"/>
                      </a:lnTo>
                      <a:lnTo>
                        <a:pt x="34" y="184"/>
                      </a:lnTo>
                      <a:lnTo>
                        <a:pt x="60" y="183"/>
                      </a:lnTo>
                      <a:lnTo>
                        <a:pt x="83" y="180"/>
                      </a:lnTo>
                      <a:lnTo>
                        <a:pt x="102" y="166"/>
                      </a:lnTo>
                      <a:lnTo>
                        <a:pt x="76" y="124"/>
                      </a:lnTo>
                      <a:lnTo>
                        <a:pt x="60" y="104"/>
                      </a:lnTo>
                      <a:lnTo>
                        <a:pt x="55" y="93"/>
                      </a:lnTo>
                      <a:lnTo>
                        <a:pt x="55" y="80"/>
                      </a:lnTo>
                      <a:lnTo>
                        <a:pt x="29" y="65"/>
                      </a:lnTo>
                      <a:lnTo>
                        <a:pt x="14" y="42"/>
                      </a:lnTo>
                      <a:lnTo>
                        <a:pt x="14" y="7"/>
                      </a:lnTo>
                      <a:lnTo>
                        <a:pt x="52" y="0"/>
                      </a:lnTo>
                      <a:lnTo>
                        <a:pt x="89" y="7"/>
                      </a:lnTo>
                      <a:lnTo>
                        <a:pt x="122" y="15"/>
                      </a:lnTo>
                      <a:lnTo>
                        <a:pt x="141" y="19"/>
                      </a:lnTo>
                      <a:lnTo>
                        <a:pt x="160" y="19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89720" y="2066400"/>
                  <a:ext cx="76320" cy="374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8" y="24"/>
                      </a:moveTo>
                      <a:lnTo>
                        <a:pt x="24" y="24"/>
                      </a:lnTo>
                      <a:lnTo>
                        <a:pt x="0" y="18"/>
                      </a:lnTo>
                      <a:lnTo>
                        <a:pt x="2" y="5"/>
                      </a:lnTo>
                      <a:lnTo>
                        <a:pt x="15" y="0"/>
                      </a:lnTo>
                      <a:lnTo>
                        <a:pt x="48" y="0"/>
                      </a:lnTo>
                      <a:lnTo>
                        <a:pt x="48" y="24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1600" y="2066400"/>
                  <a:ext cx="271440" cy="254880"/>
                </a:xfrm>
                <a:custGeom>
                  <a:avLst/>
                  <a:gdLst/>
                  <a:ahLst/>
                  <a:rect l="l" t="t" r="r" b="b"/>
                  <a:pathLst>
                    <a:path w="171" h="161">
                      <a:moveTo>
                        <a:pt x="76" y="0"/>
                      </a:moveTo>
                      <a:lnTo>
                        <a:pt x="76" y="13"/>
                      </a:lnTo>
                      <a:lnTo>
                        <a:pt x="68" y="24"/>
                      </a:lnTo>
                      <a:lnTo>
                        <a:pt x="85" y="34"/>
                      </a:lnTo>
                      <a:lnTo>
                        <a:pt x="106" y="35"/>
                      </a:lnTo>
                      <a:lnTo>
                        <a:pt x="125" y="35"/>
                      </a:lnTo>
                      <a:lnTo>
                        <a:pt x="143" y="42"/>
                      </a:lnTo>
                      <a:lnTo>
                        <a:pt x="146" y="55"/>
                      </a:lnTo>
                      <a:lnTo>
                        <a:pt x="141" y="61"/>
                      </a:lnTo>
                      <a:lnTo>
                        <a:pt x="124" y="82"/>
                      </a:lnTo>
                      <a:lnTo>
                        <a:pt x="156" y="106"/>
                      </a:lnTo>
                      <a:lnTo>
                        <a:pt x="171" y="121"/>
                      </a:lnTo>
                      <a:lnTo>
                        <a:pt x="171" y="143"/>
                      </a:lnTo>
                      <a:lnTo>
                        <a:pt x="150" y="147"/>
                      </a:lnTo>
                      <a:lnTo>
                        <a:pt x="137" y="137"/>
                      </a:lnTo>
                      <a:lnTo>
                        <a:pt x="121" y="126"/>
                      </a:lnTo>
                      <a:lnTo>
                        <a:pt x="103" y="126"/>
                      </a:lnTo>
                      <a:lnTo>
                        <a:pt x="72" y="152"/>
                      </a:lnTo>
                      <a:lnTo>
                        <a:pt x="53" y="161"/>
                      </a:lnTo>
                      <a:lnTo>
                        <a:pt x="29" y="161"/>
                      </a:lnTo>
                      <a:lnTo>
                        <a:pt x="0" y="121"/>
                      </a:lnTo>
                      <a:lnTo>
                        <a:pt x="21" y="121"/>
                      </a:lnTo>
                      <a:lnTo>
                        <a:pt x="35" y="116"/>
                      </a:lnTo>
                      <a:lnTo>
                        <a:pt x="9" y="98"/>
                      </a:lnTo>
                      <a:lnTo>
                        <a:pt x="29" y="74"/>
                      </a:lnTo>
                      <a:lnTo>
                        <a:pt x="9" y="69"/>
                      </a:lnTo>
                      <a:lnTo>
                        <a:pt x="9" y="52"/>
                      </a:lnTo>
                      <a:lnTo>
                        <a:pt x="35" y="55"/>
                      </a:lnTo>
                      <a:lnTo>
                        <a:pt x="61" y="66"/>
                      </a:lnTo>
                      <a:lnTo>
                        <a:pt x="85" y="79"/>
                      </a:lnTo>
                      <a:lnTo>
                        <a:pt x="109" y="82"/>
                      </a:lnTo>
                      <a:lnTo>
                        <a:pt x="89" y="57"/>
                      </a:lnTo>
                      <a:lnTo>
                        <a:pt x="61" y="46"/>
                      </a:lnTo>
                      <a:lnTo>
                        <a:pt x="35" y="31"/>
                      </a:lnTo>
                      <a:lnTo>
                        <a:pt x="22" y="9"/>
                      </a:lnTo>
                      <a:lnTo>
                        <a:pt x="47" y="4"/>
                      </a:lnTo>
                      <a:lnTo>
                        <a:pt x="61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46880" y="2109240"/>
                  <a:ext cx="28440" cy="37440"/>
                </a:xfrm>
                <a:prstGeom prst="rect">
                  <a:avLst/>
                </a:prstGeom>
                <a:solidFill>
                  <a:srgbClr val="ebebe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59640" y="2204280"/>
                  <a:ext cx="47520" cy="331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30" y="0"/>
                      </a:moveTo>
                      <a:lnTo>
                        <a:pt x="29" y="11"/>
                      </a:lnTo>
                      <a:lnTo>
                        <a:pt x="19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465960" y="2198160"/>
                  <a:ext cx="1622520" cy="862920"/>
                </a:xfrm>
                <a:custGeom>
                  <a:avLst/>
                  <a:gdLst/>
                  <a:ahLst/>
                  <a:rect l="l" t="t" r="r" b="b"/>
                  <a:pathLst>
                    <a:path w="1022" h="544">
                      <a:moveTo>
                        <a:pt x="572" y="11"/>
                      </a:moveTo>
                      <a:lnTo>
                        <a:pt x="572" y="23"/>
                      </a:lnTo>
                      <a:lnTo>
                        <a:pt x="553" y="23"/>
                      </a:lnTo>
                      <a:lnTo>
                        <a:pt x="534" y="23"/>
                      </a:lnTo>
                      <a:lnTo>
                        <a:pt x="515" y="23"/>
                      </a:lnTo>
                      <a:lnTo>
                        <a:pt x="503" y="36"/>
                      </a:lnTo>
                      <a:lnTo>
                        <a:pt x="517" y="38"/>
                      </a:lnTo>
                      <a:lnTo>
                        <a:pt x="534" y="37"/>
                      </a:lnTo>
                      <a:lnTo>
                        <a:pt x="550" y="37"/>
                      </a:lnTo>
                      <a:lnTo>
                        <a:pt x="572" y="41"/>
                      </a:lnTo>
                      <a:lnTo>
                        <a:pt x="592" y="19"/>
                      </a:lnTo>
                      <a:lnTo>
                        <a:pt x="599" y="9"/>
                      </a:lnTo>
                      <a:lnTo>
                        <a:pt x="619" y="11"/>
                      </a:lnTo>
                      <a:lnTo>
                        <a:pt x="636" y="47"/>
                      </a:lnTo>
                      <a:lnTo>
                        <a:pt x="667" y="75"/>
                      </a:lnTo>
                      <a:lnTo>
                        <a:pt x="705" y="98"/>
                      </a:lnTo>
                      <a:lnTo>
                        <a:pt x="740" y="130"/>
                      </a:lnTo>
                      <a:lnTo>
                        <a:pt x="746" y="119"/>
                      </a:lnTo>
                      <a:lnTo>
                        <a:pt x="761" y="114"/>
                      </a:lnTo>
                      <a:lnTo>
                        <a:pt x="791" y="107"/>
                      </a:lnTo>
                      <a:lnTo>
                        <a:pt x="805" y="107"/>
                      </a:lnTo>
                      <a:lnTo>
                        <a:pt x="817" y="111"/>
                      </a:lnTo>
                      <a:lnTo>
                        <a:pt x="830" y="130"/>
                      </a:lnTo>
                      <a:lnTo>
                        <a:pt x="830" y="151"/>
                      </a:lnTo>
                      <a:lnTo>
                        <a:pt x="837" y="175"/>
                      </a:lnTo>
                      <a:lnTo>
                        <a:pt x="848" y="197"/>
                      </a:lnTo>
                      <a:lnTo>
                        <a:pt x="853" y="220"/>
                      </a:lnTo>
                      <a:lnTo>
                        <a:pt x="882" y="240"/>
                      </a:lnTo>
                      <a:lnTo>
                        <a:pt x="917" y="249"/>
                      </a:lnTo>
                      <a:lnTo>
                        <a:pt x="949" y="258"/>
                      </a:lnTo>
                      <a:lnTo>
                        <a:pt x="974" y="277"/>
                      </a:lnTo>
                      <a:lnTo>
                        <a:pt x="974" y="292"/>
                      </a:lnTo>
                      <a:lnTo>
                        <a:pt x="978" y="309"/>
                      </a:lnTo>
                      <a:lnTo>
                        <a:pt x="996" y="337"/>
                      </a:lnTo>
                      <a:lnTo>
                        <a:pt x="1022" y="397"/>
                      </a:lnTo>
                      <a:lnTo>
                        <a:pt x="974" y="419"/>
                      </a:lnTo>
                      <a:lnTo>
                        <a:pt x="974" y="431"/>
                      </a:lnTo>
                      <a:lnTo>
                        <a:pt x="952" y="435"/>
                      </a:lnTo>
                      <a:lnTo>
                        <a:pt x="935" y="430"/>
                      </a:lnTo>
                      <a:lnTo>
                        <a:pt x="913" y="406"/>
                      </a:lnTo>
                      <a:lnTo>
                        <a:pt x="889" y="384"/>
                      </a:lnTo>
                      <a:lnTo>
                        <a:pt x="874" y="381"/>
                      </a:lnTo>
                      <a:lnTo>
                        <a:pt x="853" y="387"/>
                      </a:lnTo>
                      <a:lnTo>
                        <a:pt x="833" y="387"/>
                      </a:lnTo>
                      <a:lnTo>
                        <a:pt x="817" y="384"/>
                      </a:lnTo>
                      <a:lnTo>
                        <a:pt x="779" y="391"/>
                      </a:lnTo>
                      <a:lnTo>
                        <a:pt x="778" y="406"/>
                      </a:lnTo>
                      <a:lnTo>
                        <a:pt x="767" y="418"/>
                      </a:lnTo>
                      <a:lnTo>
                        <a:pt x="758" y="428"/>
                      </a:lnTo>
                      <a:lnTo>
                        <a:pt x="755" y="446"/>
                      </a:lnTo>
                      <a:lnTo>
                        <a:pt x="736" y="446"/>
                      </a:lnTo>
                      <a:lnTo>
                        <a:pt x="722" y="435"/>
                      </a:lnTo>
                      <a:lnTo>
                        <a:pt x="711" y="453"/>
                      </a:lnTo>
                      <a:lnTo>
                        <a:pt x="692" y="456"/>
                      </a:lnTo>
                      <a:lnTo>
                        <a:pt x="672" y="453"/>
                      </a:lnTo>
                      <a:lnTo>
                        <a:pt x="657" y="470"/>
                      </a:lnTo>
                      <a:lnTo>
                        <a:pt x="647" y="480"/>
                      </a:lnTo>
                      <a:lnTo>
                        <a:pt x="632" y="480"/>
                      </a:lnTo>
                      <a:lnTo>
                        <a:pt x="614" y="476"/>
                      </a:lnTo>
                      <a:lnTo>
                        <a:pt x="597" y="480"/>
                      </a:lnTo>
                      <a:lnTo>
                        <a:pt x="530" y="453"/>
                      </a:lnTo>
                      <a:lnTo>
                        <a:pt x="510" y="461"/>
                      </a:lnTo>
                      <a:lnTo>
                        <a:pt x="487" y="453"/>
                      </a:lnTo>
                      <a:lnTo>
                        <a:pt x="435" y="426"/>
                      </a:lnTo>
                      <a:lnTo>
                        <a:pt x="404" y="418"/>
                      </a:lnTo>
                      <a:lnTo>
                        <a:pt x="372" y="426"/>
                      </a:lnTo>
                      <a:lnTo>
                        <a:pt x="372" y="441"/>
                      </a:lnTo>
                      <a:lnTo>
                        <a:pt x="352" y="440"/>
                      </a:lnTo>
                      <a:lnTo>
                        <a:pt x="344" y="452"/>
                      </a:lnTo>
                      <a:lnTo>
                        <a:pt x="334" y="461"/>
                      </a:lnTo>
                      <a:lnTo>
                        <a:pt x="317" y="459"/>
                      </a:lnTo>
                      <a:lnTo>
                        <a:pt x="309" y="446"/>
                      </a:lnTo>
                      <a:lnTo>
                        <a:pt x="268" y="466"/>
                      </a:lnTo>
                      <a:lnTo>
                        <a:pt x="249" y="474"/>
                      </a:lnTo>
                      <a:lnTo>
                        <a:pt x="240" y="493"/>
                      </a:lnTo>
                      <a:lnTo>
                        <a:pt x="266" y="517"/>
                      </a:lnTo>
                      <a:lnTo>
                        <a:pt x="275" y="528"/>
                      </a:lnTo>
                      <a:lnTo>
                        <a:pt x="275" y="544"/>
                      </a:lnTo>
                      <a:lnTo>
                        <a:pt x="242" y="539"/>
                      </a:lnTo>
                      <a:lnTo>
                        <a:pt x="220" y="528"/>
                      </a:lnTo>
                      <a:lnTo>
                        <a:pt x="205" y="531"/>
                      </a:lnTo>
                      <a:lnTo>
                        <a:pt x="191" y="530"/>
                      </a:lnTo>
                      <a:lnTo>
                        <a:pt x="170" y="511"/>
                      </a:lnTo>
                      <a:lnTo>
                        <a:pt x="145" y="497"/>
                      </a:lnTo>
                      <a:lnTo>
                        <a:pt x="128" y="495"/>
                      </a:lnTo>
                      <a:lnTo>
                        <a:pt x="106" y="498"/>
                      </a:lnTo>
                      <a:lnTo>
                        <a:pt x="54" y="465"/>
                      </a:lnTo>
                      <a:lnTo>
                        <a:pt x="0" y="426"/>
                      </a:lnTo>
                      <a:lnTo>
                        <a:pt x="0" y="411"/>
                      </a:lnTo>
                      <a:lnTo>
                        <a:pt x="0" y="391"/>
                      </a:lnTo>
                      <a:lnTo>
                        <a:pt x="15" y="391"/>
                      </a:lnTo>
                      <a:lnTo>
                        <a:pt x="26" y="387"/>
                      </a:lnTo>
                      <a:lnTo>
                        <a:pt x="39" y="371"/>
                      </a:lnTo>
                      <a:lnTo>
                        <a:pt x="53" y="355"/>
                      </a:lnTo>
                      <a:lnTo>
                        <a:pt x="76" y="352"/>
                      </a:lnTo>
                      <a:lnTo>
                        <a:pt x="83" y="336"/>
                      </a:lnTo>
                      <a:lnTo>
                        <a:pt x="84" y="318"/>
                      </a:lnTo>
                      <a:lnTo>
                        <a:pt x="39" y="289"/>
                      </a:lnTo>
                      <a:lnTo>
                        <a:pt x="26" y="270"/>
                      </a:lnTo>
                      <a:lnTo>
                        <a:pt x="23" y="258"/>
                      </a:lnTo>
                      <a:lnTo>
                        <a:pt x="28" y="242"/>
                      </a:lnTo>
                      <a:lnTo>
                        <a:pt x="69" y="203"/>
                      </a:lnTo>
                      <a:lnTo>
                        <a:pt x="89" y="193"/>
                      </a:lnTo>
                      <a:lnTo>
                        <a:pt x="106" y="180"/>
                      </a:lnTo>
                      <a:lnTo>
                        <a:pt x="126" y="179"/>
                      </a:lnTo>
                      <a:lnTo>
                        <a:pt x="142" y="181"/>
                      </a:lnTo>
                      <a:lnTo>
                        <a:pt x="162" y="197"/>
                      </a:lnTo>
                      <a:lnTo>
                        <a:pt x="181" y="214"/>
                      </a:lnTo>
                      <a:lnTo>
                        <a:pt x="195" y="220"/>
                      </a:lnTo>
                      <a:lnTo>
                        <a:pt x="214" y="220"/>
                      </a:lnTo>
                      <a:lnTo>
                        <a:pt x="223" y="199"/>
                      </a:lnTo>
                      <a:lnTo>
                        <a:pt x="227" y="188"/>
                      </a:lnTo>
                      <a:lnTo>
                        <a:pt x="227" y="175"/>
                      </a:lnTo>
                      <a:lnTo>
                        <a:pt x="255" y="158"/>
                      </a:lnTo>
                      <a:lnTo>
                        <a:pt x="268" y="130"/>
                      </a:lnTo>
                      <a:lnTo>
                        <a:pt x="286" y="132"/>
                      </a:lnTo>
                      <a:lnTo>
                        <a:pt x="301" y="132"/>
                      </a:lnTo>
                      <a:lnTo>
                        <a:pt x="329" y="125"/>
                      </a:lnTo>
                      <a:lnTo>
                        <a:pt x="352" y="116"/>
                      </a:lnTo>
                      <a:lnTo>
                        <a:pt x="368" y="115"/>
                      </a:lnTo>
                      <a:lnTo>
                        <a:pt x="383" y="114"/>
                      </a:lnTo>
                      <a:lnTo>
                        <a:pt x="383" y="102"/>
                      </a:lnTo>
                      <a:lnTo>
                        <a:pt x="394" y="94"/>
                      </a:lnTo>
                      <a:lnTo>
                        <a:pt x="419" y="84"/>
                      </a:lnTo>
                      <a:lnTo>
                        <a:pt x="465" y="56"/>
                      </a:lnTo>
                      <a:lnTo>
                        <a:pt x="482" y="0"/>
                      </a:lnTo>
                      <a:lnTo>
                        <a:pt x="523" y="8"/>
                      </a:lnTo>
                      <a:lnTo>
                        <a:pt x="546" y="11"/>
                      </a:lnTo>
                      <a:lnTo>
                        <a:pt x="572" y="11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209000" y="2293200"/>
                  <a:ext cx="1908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791480" y="2363040"/>
                  <a:ext cx="185760" cy="182160"/>
                </a:xfrm>
                <a:custGeom>
                  <a:avLst/>
                  <a:gdLst/>
                  <a:ahLst/>
                  <a:rect l="l" t="t" r="r" b="b"/>
                  <a:pathLst>
                    <a:path w="117" h="115">
                      <a:moveTo>
                        <a:pt x="116" y="80"/>
                      </a:moveTo>
                      <a:lnTo>
                        <a:pt x="117" y="93"/>
                      </a:lnTo>
                      <a:lnTo>
                        <a:pt x="113" y="98"/>
                      </a:lnTo>
                      <a:lnTo>
                        <a:pt x="100" y="106"/>
                      </a:lnTo>
                      <a:lnTo>
                        <a:pt x="64" y="115"/>
                      </a:lnTo>
                      <a:lnTo>
                        <a:pt x="21" y="115"/>
                      </a:lnTo>
                      <a:lnTo>
                        <a:pt x="32" y="97"/>
                      </a:lnTo>
                      <a:lnTo>
                        <a:pt x="40" y="88"/>
                      </a:lnTo>
                      <a:lnTo>
                        <a:pt x="40" y="75"/>
                      </a:lnTo>
                      <a:lnTo>
                        <a:pt x="56" y="69"/>
                      </a:lnTo>
                      <a:lnTo>
                        <a:pt x="32" y="46"/>
                      </a:lnTo>
                      <a:lnTo>
                        <a:pt x="15" y="52"/>
                      </a:lnTo>
                      <a:lnTo>
                        <a:pt x="0" y="0"/>
                      </a:lnTo>
                      <a:lnTo>
                        <a:pt x="36" y="12"/>
                      </a:lnTo>
                      <a:lnTo>
                        <a:pt x="60" y="39"/>
                      </a:lnTo>
                      <a:lnTo>
                        <a:pt x="82" y="65"/>
                      </a:lnTo>
                      <a:lnTo>
                        <a:pt x="116" y="8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21440" y="275040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6" y="19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10240" y="2967840"/>
                  <a:ext cx="212760" cy="118800"/>
                </a:xfrm>
                <a:custGeom>
                  <a:avLst/>
                  <a:gdLst/>
                  <a:ahLst/>
                  <a:rect l="l" t="t" r="r" b="b"/>
                  <a:pathLst>
                    <a:path w="134" h="75">
                      <a:moveTo>
                        <a:pt x="134" y="64"/>
                      </a:moveTo>
                      <a:lnTo>
                        <a:pt x="115" y="72"/>
                      </a:lnTo>
                      <a:lnTo>
                        <a:pt x="94" y="75"/>
                      </a:lnTo>
                      <a:lnTo>
                        <a:pt x="54" y="60"/>
                      </a:lnTo>
                      <a:lnTo>
                        <a:pt x="37" y="50"/>
                      </a:lnTo>
                      <a:lnTo>
                        <a:pt x="28" y="29"/>
                      </a:lnTo>
                      <a:lnTo>
                        <a:pt x="9" y="15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82" y="19"/>
                      </a:lnTo>
                      <a:lnTo>
                        <a:pt x="115" y="34"/>
                      </a:lnTo>
                      <a:lnTo>
                        <a:pt x="134" y="64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7040" y="3258360"/>
                  <a:ext cx="285840" cy="180720"/>
                </a:xfrm>
                <a:custGeom>
                  <a:avLst/>
                  <a:gdLst/>
                  <a:ahLst/>
                  <a:rect l="l" t="t" r="r" b="b"/>
                  <a:pathLst>
                    <a:path w="180" h="114">
                      <a:moveTo>
                        <a:pt x="139" y="40"/>
                      </a:moveTo>
                      <a:lnTo>
                        <a:pt x="139" y="52"/>
                      </a:lnTo>
                      <a:lnTo>
                        <a:pt x="146" y="65"/>
                      </a:lnTo>
                      <a:lnTo>
                        <a:pt x="167" y="68"/>
                      </a:lnTo>
                      <a:lnTo>
                        <a:pt x="180" y="80"/>
                      </a:lnTo>
                      <a:lnTo>
                        <a:pt x="167" y="85"/>
                      </a:lnTo>
                      <a:lnTo>
                        <a:pt x="165" y="100"/>
                      </a:lnTo>
                      <a:lnTo>
                        <a:pt x="164" y="113"/>
                      </a:lnTo>
                      <a:lnTo>
                        <a:pt x="146" y="114"/>
                      </a:lnTo>
                      <a:lnTo>
                        <a:pt x="112" y="97"/>
                      </a:lnTo>
                      <a:lnTo>
                        <a:pt x="94" y="96"/>
                      </a:lnTo>
                      <a:lnTo>
                        <a:pt x="73" y="104"/>
                      </a:lnTo>
                      <a:lnTo>
                        <a:pt x="73" y="110"/>
                      </a:lnTo>
                      <a:lnTo>
                        <a:pt x="55" y="100"/>
                      </a:lnTo>
                      <a:lnTo>
                        <a:pt x="33" y="101"/>
                      </a:lnTo>
                      <a:lnTo>
                        <a:pt x="13" y="104"/>
                      </a:lnTo>
                      <a:lnTo>
                        <a:pt x="0" y="93"/>
                      </a:lnTo>
                      <a:lnTo>
                        <a:pt x="13" y="24"/>
                      </a:lnTo>
                      <a:lnTo>
                        <a:pt x="81" y="0"/>
                      </a:lnTo>
                      <a:lnTo>
                        <a:pt x="107" y="18"/>
                      </a:lnTo>
                      <a:lnTo>
                        <a:pt x="139" y="4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694560" y="5603040"/>
                  <a:ext cx="10890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51520" y="4736520"/>
                  <a:ext cx="99216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11680" y="3868200"/>
                  <a:ext cx="1173240" cy="2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03840" y="2877480"/>
                  <a:ext cx="99252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32680" y="5385600"/>
                  <a:ext cx="10540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5534280" y="1887480"/>
                <a:ext cx="66600" cy="179280"/>
              </a:xfrm>
              <a:custGeom>
                <a:avLst/>
                <a:gdLst/>
                <a:ahLst/>
                <a:rect l="l" t="t" r="r" b="b"/>
                <a:pathLst>
                  <a:path w="42" h="113">
                    <a:moveTo>
                      <a:pt x="42" y="0"/>
                    </a:moveTo>
                    <a:lnTo>
                      <a:pt x="40" y="18"/>
                    </a:lnTo>
                    <a:lnTo>
                      <a:pt x="27" y="35"/>
                    </a:lnTo>
                    <a:lnTo>
                      <a:pt x="22" y="49"/>
                    </a:lnTo>
                    <a:lnTo>
                      <a:pt x="42" y="62"/>
                    </a:lnTo>
                    <a:lnTo>
                      <a:pt x="42" y="82"/>
                    </a:lnTo>
                    <a:lnTo>
                      <a:pt x="21" y="83"/>
                    </a:lnTo>
                    <a:lnTo>
                      <a:pt x="14" y="98"/>
                    </a:lnTo>
                    <a:lnTo>
                      <a:pt x="14" y="113"/>
                    </a:lnTo>
                    <a:lnTo>
                      <a:pt x="0" y="113"/>
                    </a:lnTo>
                    <a:lnTo>
                      <a:pt x="1" y="82"/>
                    </a:lnTo>
                    <a:lnTo>
                      <a:pt x="1" y="62"/>
                    </a:lnTo>
                    <a:lnTo>
                      <a:pt x="1" y="46"/>
                    </a:lnTo>
                    <a:lnTo>
                      <a:pt x="13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beb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483080" y="3373200"/>
              <a:ext cx="1549440" cy="1257480"/>
            </a:xfrm>
            <a:custGeom>
              <a:avLst/>
              <a:gdLst/>
              <a:ahLst/>
              <a:rect l="l" t="t" r="r" b="b"/>
              <a:pathLst>
                <a:path w="976" h="792">
                  <a:moveTo>
                    <a:pt x="955" y="325"/>
                  </a:moveTo>
                  <a:lnTo>
                    <a:pt x="942" y="338"/>
                  </a:lnTo>
                  <a:lnTo>
                    <a:pt x="942" y="353"/>
                  </a:lnTo>
                  <a:lnTo>
                    <a:pt x="926" y="379"/>
                  </a:lnTo>
                  <a:lnTo>
                    <a:pt x="895" y="399"/>
                  </a:lnTo>
                  <a:lnTo>
                    <a:pt x="874" y="399"/>
                  </a:lnTo>
                  <a:lnTo>
                    <a:pt x="868" y="386"/>
                  </a:lnTo>
                  <a:lnTo>
                    <a:pt x="856" y="375"/>
                  </a:lnTo>
                  <a:lnTo>
                    <a:pt x="838" y="378"/>
                  </a:lnTo>
                  <a:lnTo>
                    <a:pt x="824" y="388"/>
                  </a:lnTo>
                  <a:lnTo>
                    <a:pt x="833" y="403"/>
                  </a:lnTo>
                  <a:lnTo>
                    <a:pt x="834" y="422"/>
                  </a:lnTo>
                  <a:lnTo>
                    <a:pt x="782" y="430"/>
                  </a:lnTo>
                  <a:lnTo>
                    <a:pt x="759" y="440"/>
                  </a:lnTo>
                  <a:lnTo>
                    <a:pt x="740" y="463"/>
                  </a:lnTo>
                  <a:lnTo>
                    <a:pt x="768" y="468"/>
                  </a:lnTo>
                  <a:lnTo>
                    <a:pt x="779" y="472"/>
                  </a:lnTo>
                  <a:lnTo>
                    <a:pt x="782" y="485"/>
                  </a:lnTo>
                  <a:lnTo>
                    <a:pt x="783" y="499"/>
                  </a:lnTo>
                  <a:lnTo>
                    <a:pt x="774" y="509"/>
                  </a:lnTo>
                  <a:lnTo>
                    <a:pt x="765" y="518"/>
                  </a:lnTo>
                  <a:lnTo>
                    <a:pt x="760" y="530"/>
                  </a:lnTo>
                  <a:lnTo>
                    <a:pt x="737" y="526"/>
                  </a:lnTo>
                  <a:lnTo>
                    <a:pt x="729" y="546"/>
                  </a:lnTo>
                  <a:lnTo>
                    <a:pt x="729" y="569"/>
                  </a:lnTo>
                  <a:lnTo>
                    <a:pt x="707" y="578"/>
                  </a:lnTo>
                  <a:lnTo>
                    <a:pt x="695" y="599"/>
                  </a:lnTo>
                  <a:lnTo>
                    <a:pt x="682" y="612"/>
                  </a:lnTo>
                  <a:lnTo>
                    <a:pt x="655" y="604"/>
                  </a:lnTo>
                  <a:lnTo>
                    <a:pt x="601" y="673"/>
                  </a:lnTo>
                  <a:lnTo>
                    <a:pt x="535" y="599"/>
                  </a:lnTo>
                  <a:lnTo>
                    <a:pt x="521" y="587"/>
                  </a:lnTo>
                  <a:lnTo>
                    <a:pt x="515" y="600"/>
                  </a:lnTo>
                  <a:lnTo>
                    <a:pt x="515" y="615"/>
                  </a:lnTo>
                  <a:lnTo>
                    <a:pt x="499" y="621"/>
                  </a:lnTo>
                  <a:lnTo>
                    <a:pt x="486" y="633"/>
                  </a:lnTo>
                  <a:lnTo>
                    <a:pt x="467" y="651"/>
                  </a:lnTo>
                  <a:lnTo>
                    <a:pt x="436" y="663"/>
                  </a:lnTo>
                  <a:lnTo>
                    <a:pt x="406" y="677"/>
                  </a:lnTo>
                  <a:lnTo>
                    <a:pt x="387" y="700"/>
                  </a:lnTo>
                  <a:lnTo>
                    <a:pt x="370" y="700"/>
                  </a:lnTo>
                  <a:lnTo>
                    <a:pt x="353" y="695"/>
                  </a:lnTo>
                  <a:lnTo>
                    <a:pt x="314" y="715"/>
                  </a:lnTo>
                  <a:lnTo>
                    <a:pt x="272" y="729"/>
                  </a:lnTo>
                  <a:lnTo>
                    <a:pt x="267" y="739"/>
                  </a:lnTo>
                  <a:lnTo>
                    <a:pt x="255" y="741"/>
                  </a:lnTo>
                  <a:lnTo>
                    <a:pt x="242" y="742"/>
                  </a:lnTo>
                  <a:lnTo>
                    <a:pt x="231" y="751"/>
                  </a:lnTo>
                  <a:lnTo>
                    <a:pt x="238" y="792"/>
                  </a:lnTo>
                  <a:lnTo>
                    <a:pt x="193" y="782"/>
                  </a:lnTo>
                  <a:lnTo>
                    <a:pt x="164" y="779"/>
                  </a:lnTo>
                  <a:lnTo>
                    <a:pt x="133" y="786"/>
                  </a:lnTo>
                  <a:lnTo>
                    <a:pt x="138" y="786"/>
                  </a:lnTo>
                  <a:lnTo>
                    <a:pt x="133" y="786"/>
                  </a:lnTo>
                  <a:lnTo>
                    <a:pt x="107" y="734"/>
                  </a:lnTo>
                  <a:lnTo>
                    <a:pt x="91" y="734"/>
                  </a:lnTo>
                  <a:lnTo>
                    <a:pt x="80" y="729"/>
                  </a:lnTo>
                  <a:lnTo>
                    <a:pt x="95" y="711"/>
                  </a:lnTo>
                  <a:lnTo>
                    <a:pt x="85" y="697"/>
                  </a:lnTo>
                  <a:lnTo>
                    <a:pt x="71" y="681"/>
                  </a:lnTo>
                  <a:lnTo>
                    <a:pt x="65" y="660"/>
                  </a:lnTo>
                  <a:lnTo>
                    <a:pt x="25" y="639"/>
                  </a:lnTo>
                  <a:lnTo>
                    <a:pt x="25" y="621"/>
                  </a:lnTo>
                  <a:lnTo>
                    <a:pt x="39" y="615"/>
                  </a:lnTo>
                  <a:lnTo>
                    <a:pt x="39" y="604"/>
                  </a:lnTo>
                  <a:lnTo>
                    <a:pt x="51" y="599"/>
                  </a:lnTo>
                  <a:lnTo>
                    <a:pt x="51" y="585"/>
                  </a:lnTo>
                  <a:lnTo>
                    <a:pt x="46" y="576"/>
                  </a:lnTo>
                  <a:lnTo>
                    <a:pt x="25" y="560"/>
                  </a:lnTo>
                  <a:lnTo>
                    <a:pt x="12" y="557"/>
                  </a:lnTo>
                  <a:lnTo>
                    <a:pt x="0" y="546"/>
                  </a:lnTo>
                  <a:lnTo>
                    <a:pt x="24" y="524"/>
                  </a:lnTo>
                  <a:lnTo>
                    <a:pt x="58" y="502"/>
                  </a:lnTo>
                  <a:lnTo>
                    <a:pt x="69" y="499"/>
                  </a:lnTo>
                  <a:lnTo>
                    <a:pt x="80" y="490"/>
                  </a:lnTo>
                  <a:lnTo>
                    <a:pt x="58" y="485"/>
                  </a:lnTo>
                  <a:lnTo>
                    <a:pt x="58" y="466"/>
                  </a:lnTo>
                  <a:lnTo>
                    <a:pt x="65" y="448"/>
                  </a:lnTo>
                  <a:lnTo>
                    <a:pt x="88" y="418"/>
                  </a:lnTo>
                  <a:lnTo>
                    <a:pt x="102" y="388"/>
                  </a:lnTo>
                  <a:lnTo>
                    <a:pt x="102" y="370"/>
                  </a:lnTo>
                  <a:lnTo>
                    <a:pt x="91" y="348"/>
                  </a:lnTo>
                  <a:lnTo>
                    <a:pt x="39" y="274"/>
                  </a:lnTo>
                  <a:lnTo>
                    <a:pt x="33" y="260"/>
                  </a:lnTo>
                  <a:lnTo>
                    <a:pt x="34" y="249"/>
                  </a:lnTo>
                  <a:lnTo>
                    <a:pt x="50" y="238"/>
                  </a:lnTo>
                  <a:lnTo>
                    <a:pt x="72" y="234"/>
                  </a:lnTo>
                  <a:lnTo>
                    <a:pt x="85" y="217"/>
                  </a:lnTo>
                  <a:lnTo>
                    <a:pt x="150" y="235"/>
                  </a:lnTo>
                  <a:lnTo>
                    <a:pt x="167" y="236"/>
                  </a:lnTo>
                  <a:lnTo>
                    <a:pt x="184" y="234"/>
                  </a:lnTo>
                  <a:lnTo>
                    <a:pt x="212" y="217"/>
                  </a:lnTo>
                  <a:lnTo>
                    <a:pt x="228" y="217"/>
                  </a:lnTo>
                  <a:lnTo>
                    <a:pt x="246" y="217"/>
                  </a:lnTo>
                  <a:lnTo>
                    <a:pt x="260" y="213"/>
                  </a:lnTo>
                  <a:lnTo>
                    <a:pt x="267" y="200"/>
                  </a:lnTo>
                  <a:lnTo>
                    <a:pt x="272" y="188"/>
                  </a:lnTo>
                  <a:lnTo>
                    <a:pt x="264" y="179"/>
                  </a:lnTo>
                  <a:lnTo>
                    <a:pt x="250" y="178"/>
                  </a:lnTo>
                  <a:lnTo>
                    <a:pt x="240" y="174"/>
                  </a:lnTo>
                  <a:lnTo>
                    <a:pt x="238" y="161"/>
                  </a:lnTo>
                  <a:lnTo>
                    <a:pt x="288" y="128"/>
                  </a:lnTo>
                  <a:lnTo>
                    <a:pt x="340" y="92"/>
                  </a:lnTo>
                  <a:lnTo>
                    <a:pt x="357" y="92"/>
                  </a:lnTo>
                  <a:lnTo>
                    <a:pt x="372" y="91"/>
                  </a:lnTo>
                  <a:lnTo>
                    <a:pt x="405" y="78"/>
                  </a:lnTo>
                  <a:lnTo>
                    <a:pt x="467" y="46"/>
                  </a:lnTo>
                  <a:lnTo>
                    <a:pt x="474" y="31"/>
                  </a:lnTo>
                  <a:lnTo>
                    <a:pt x="475" y="22"/>
                  </a:lnTo>
                  <a:lnTo>
                    <a:pt x="486" y="18"/>
                  </a:lnTo>
                  <a:lnTo>
                    <a:pt x="508" y="41"/>
                  </a:lnTo>
                  <a:lnTo>
                    <a:pt x="545" y="50"/>
                  </a:lnTo>
                  <a:lnTo>
                    <a:pt x="574" y="76"/>
                  </a:lnTo>
                  <a:lnTo>
                    <a:pt x="566" y="81"/>
                  </a:lnTo>
                  <a:lnTo>
                    <a:pt x="566" y="109"/>
                  </a:lnTo>
                  <a:lnTo>
                    <a:pt x="570" y="122"/>
                  </a:lnTo>
                  <a:lnTo>
                    <a:pt x="582" y="128"/>
                  </a:lnTo>
                  <a:lnTo>
                    <a:pt x="570" y="145"/>
                  </a:lnTo>
                  <a:lnTo>
                    <a:pt x="548" y="154"/>
                  </a:lnTo>
                  <a:lnTo>
                    <a:pt x="558" y="173"/>
                  </a:lnTo>
                  <a:lnTo>
                    <a:pt x="582" y="178"/>
                  </a:lnTo>
                  <a:lnTo>
                    <a:pt x="619" y="163"/>
                  </a:lnTo>
                  <a:lnTo>
                    <a:pt x="642" y="158"/>
                  </a:lnTo>
                  <a:lnTo>
                    <a:pt x="661" y="143"/>
                  </a:lnTo>
                  <a:lnTo>
                    <a:pt x="669" y="149"/>
                  </a:lnTo>
                  <a:lnTo>
                    <a:pt x="692" y="148"/>
                  </a:lnTo>
                  <a:lnTo>
                    <a:pt x="714" y="137"/>
                  </a:lnTo>
                  <a:lnTo>
                    <a:pt x="716" y="122"/>
                  </a:lnTo>
                  <a:lnTo>
                    <a:pt x="712" y="104"/>
                  </a:lnTo>
                  <a:lnTo>
                    <a:pt x="708" y="87"/>
                  </a:lnTo>
                  <a:lnTo>
                    <a:pt x="708" y="68"/>
                  </a:lnTo>
                  <a:lnTo>
                    <a:pt x="690" y="49"/>
                  </a:lnTo>
                  <a:lnTo>
                    <a:pt x="678" y="37"/>
                  </a:lnTo>
                  <a:lnTo>
                    <a:pt x="673" y="23"/>
                  </a:lnTo>
                  <a:lnTo>
                    <a:pt x="690" y="22"/>
                  </a:lnTo>
                  <a:lnTo>
                    <a:pt x="708" y="23"/>
                  </a:lnTo>
                  <a:lnTo>
                    <a:pt x="721" y="6"/>
                  </a:lnTo>
                  <a:lnTo>
                    <a:pt x="746" y="0"/>
                  </a:lnTo>
                  <a:lnTo>
                    <a:pt x="763" y="10"/>
                  </a:lnTo>
                  <a:lnTo>
                    <a:pt x="787" y="46"/>
                  </a:lnTo>
                  <a:lnTo>
                    <a:pt x="817" y="54"/>
                  </a:lnTo>
                  <a:lnTo>
                    <a:pt x="833" y="42"/>
                  </a:lnTo>
                  <a:lnTo>
                    <a:pt x="846" y="26"/>
                  </a:lnTo>
                  <a:lnTo>
                    <a:pt x="868" y="14"/>
                  </a:lnTo>
                  <a:lnTo>
                    <a:pt x="886" y="22"/>
                  </a:lnTo>
                  <a:lnTo>
                    <a:pt x="889" y="41"/>
                  </a:lnTo>
                  <a:lnTo>
                    <a:pt x="873" y="59"/>
                  </a:lnTo>
                  <a:lnTo>
                    <a:pt x="848" y="68"/>
                  </a:lnTo>
                  <a:lnTo>
                    <a:pt x="848" y="92"/>
                  </a:lnTo>
                  <a:lnTo>
                    <a:pt x="863" y="109"/>
                  </a:lnTo>
                  <a:lnTo>
                    <a:pt x="848" y="123"/>
                  </a:lnTo>
                  <a:lnTo>
                    <a:pt x="848" y="143"/>
                  </a:lnTo>
                  <a:lnTo>
                    <a:pt x="865" y="143"/>
                  </a:lnTo>
                  <a:lnTo>
                    <a:pt x="881" y="150"/>
                  </a:lnTo>
                  <a:lnTo>
                    <a:pt x="910" y="173"/>
                  </a:lnTo>
                  <a:lnTo>
                    <a:pt x="900" y="195"/>
                  </a:lnTo>
                  <a:lnTo>
                    <a:pt x="913" y="210"/>
                  </a:lnTo>
                  <a:lnTo>
                    <a:pt x="937" y="223"/>
                  </a:lnTo>
                  <a:lnTo>
                    <a:pt x="950" y="239"/>
                  </a:lnTo>
                  <a:lnTo>
                    <a:pt x="976" y="253"/>
                  </a:lnTo>
                  <a:lnTo>
                    <a:pt x="967" y="274"/>
                  </a:lnTo>
                  <a:lnTo>
                    <a:pt x="951" y="297"/>
                  </a:lnTo>
                  <a:lnTo>
                    <a:pt x="950" y="310"/>
                  </a:lnTo>
                  <a:lnTo>
                    <a:pt x="955" y="32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10360" y="3879720"/>
              <a:ext cx="1211400" cy="835200"/>
            </a:xfrm>
            <a:custGeom>
              <a:avLst/>
              <a:gdLst/>
              <a:ahLst/>
              <a:rect l="l" t="t" r="r" b="b"/>
              <a:pathLst>
                <a:path w="763" h="526">
                  <a:moveTo>
                    <a:pt x="649" y="195"/>
                  </a:moveTo>
                  <a:lnTo>
                    <a:pt x="664" y="191"/>
                  </a:lnTo>
                  <a:lnTo>
                    <a:pt x="680" y="195"/>
                  </a:lnTo>
                  <a:lnTo>
                    <a:pt x="709" y="210"/>
                  </a:lnTo>
                  <a:lnTo>
                    <a:pt x="763" y="255"/>
                  </a:lnTo>
                  <a:lnTo>
                    <a:pt x="751" y="266"/>
                  </a:lnTo>
                  <a:lnTo>
                    <a:pt x="738" y="265"/>
                  </a:lnTo>
                  <a:lnTo>
                    <a:pt x="710" y="262"/>
                  </a:lnTo>
                  <a:lnTo>
                    <a:pt x="705" y="279"/>
                  </a:lnTo>
                  <a:lnTo>
                    <a:pt x="681" y="292"/>
                  </a:lnTo>
                  <a:lnTo>
                    <a:pt x="671" y="297"/>
                  </a:lnTo>
                  <a:lnTo>
                    <a:pt x="656" y="295"/>
                  </a:lnTo>
                  <a:lnTo>
                    <a:pt x="668" y="353"/>
                  </a:lnTo>
                  <a:lnTo>
                    <a:pt x="651" y="362"/>
                  </a:lnTo>
                  <a:lnTo>
                    <a:pt x="629" y="370"/>
                  </a:lnTo>
                  <a:lnTo>
                    <a:pt x="617" y="382"/>
                  </a:lnTo>
                  <a:lnTo>
                    <a:pt x="593" y="394"/>
                  </a:lnTo>
                  <a:lnTo>
                    <a:pt x="578" y="407"/>
                  </a:lnTo>
                  <a:lnTo>
                    <a:pt x="576" y="417"/>
                  </a:lnTo>
                  <a:lnTo>
                    <a:pt x="582" y="434"/>
                  </a:lnTo>
                  <a:lnTo>
                    <a:pt x="571" y="447"/>
                  </a:lnTo>
                  <a:lnTo>
                    <a:pt x="549" y="450"/>
                  </a:lnTo>
                  <a:lnTo>
                    <a:pt x="530" y="451"/>
                  </a:lnTo>
                  <a:lnTo>
                    <a:pt x="512" y="463"/>
                  </a:lnTo>
                  <a:lnTo>
                    <a:pt x="490" y="461"/>
                  </a:lnTo>
                  <a:lnTo>
                    <a:pt x="463" y="463"/>
                  </a:lnTo>
                  <a:lnTo>
                    <a:pt x="441" y="459"/>
                  </a:lnTo>
                  <a:lnTo>
                    <a:pt x="426" y="439"/>
                  </a:lnTo>
                  <a:lnTo>
                    <a:pt x="425" y="422"/>
                  </a:lnTo>
                  <a:lnTo>
                    <a:pt x="415" y="409"/>
                  </a:lnTo>
                  <a:lnTo>
                    <a:pt x="391" y="425"/>
                  </a:lnTo>
                  <a:lnTo>
                    <a:pt x="387" y="448"/>
                  </a:lnTo>
                  <a:lnTo>
                    <a:pt x="389" y="476"/>
                  </a:lnTo>
                  <a:lnTo>
                    <a:pt x="389" y="489"/>
                  </a:lnTo>
                  <a:lnTo>
                    <a:pt x="389" y="502"/>
                  </a:lnTo>
                  <a:lnTo>
                    <a:pt x="370" y="502"/>
                  </a:lnTo>
                  <a:lnTo>
                    <a:pt x="360" y="494"/>
                  </a:lnTo>
                  <a:lnTo>
                    <a:pt x="339" y="472"/>
                  </a:lnTo>
                  <a:lnTo>
                    <a:pt x="314" y="474"/>
                  </a:lnTo>
                  <a:lnTo>
                    <a:pt x="290" y="470"/>
                  </a:lnTo>
                  <a:lnTo>
                    <a:pt x="265" y="467"/>
                  </a:lnTo>
                  <a:lnTo>
                    <a:pt x="240" y="477"/>
                  </a:lnTo>
                  <a:lnTo>
                    <a:pt x="269" y="496"/>
                  </a:lnTo>
                  <a:lnTo>
                    <a:pt x="269" y="512"/>
                  </a:lnTo>
                  <a:lnTo>
                    <a:pt x="253" y="516"/>
                  </a:lnTo>
                  <a:lnTo>
                    <a:pt x="243" y="520"/>
                  </a:lnTo>
                  <a:lnTo>
                    <a:pt x="231" y="526"/>
                  </a:lnTo>
                  <a:lnTo>
                    <a:pt x="214" y="522"/>
                  </a:lnTo>
                  <a:lnTo>
                    <a:pt x="190" y="483"/>
                  </a:lnTo>
                  <a:lnTo>
                    <a:pt x="140" y="463"/>
                  </a:lnTo>
                  <a:lnTo>
                    <a:pt x="118" y="430"/>
                  </a:lnTo>
                  <a:lnTo>
                    <a:pt x="80" y="409"/>
                  </a:lnTo>
                  <a:lnTo>
                    <a:pt x="46" y="409"/>
                  </a:lnTo>
                  <a:lnTo>
                    <a:pt x="54" y="364"/>
                  </a:lnTo>
                  <a:lnTo>
                    <a:pt x="36" y="357"/>
                  </a:lnTo>
                  <a:lnTo>
                    <a:pt x="24" y="364"/>
                  </a:lnTo>
                  <a:lnTo>
                    <a:pt x="14" y="373"/>
                  </a:lnTo>
                  <a:lnTo>
                    <a:pt x="0" y="370"/>
                  </a:lnTo>
                  <a:lnTo>
                    <a:pt x="7" y="342"/>
                  </a:lnTo>
                  <a:lnTo>
                    <a:pt x="17" y="316"/>
                  </a:lnTo>
                  <a:lnTo>
                    <a:pt x="22" y="305"/>
                  </a:lnTo>
                  <a:lnTo>
                    <a:pt x="39" y="303"/>
                  </a:lnTo>
                  <a:lnTo>
                    <a:pt x="39" y="284"/>
                  </a:lnTo>
                  <a:lnTo>
                    <a:pt x="36" y="271"/>
                  </a:lnTo>
                  <a:lnTo>
                    <a:pt x="36" y="260"/>
                  </a:lnTo>
                  <a:lnTo>
                    <a:pt x="49" y="242"/>
                  </a:lnTo>
                  <a:lnTo>
                    <a:pt x="70" y="231"/>
                  </a:lnTo>
                  <a:lnTo>
                    <a:pt x="92" y="227"/>
                  </a:lnTo>
                  <a:lnTo>
                    <a:pt x="76" y="195"/>
                  </a:lnTo>
                  <a:lnTo>
                    <a:pt x="79" y="178"/>
                  </a:lnTo>
                  <a:lnTo>
                    <a:pt x="87" y="160"/>
                  </a:lnTo>
                  <a:lnTo>
                    <a:pt x="80" y="160"/>
                  </a:lnTo>
                  <a:lnTo>
                    <a:pt x="35" y="135"/>
                  </a:lnTo>
                  <a:lnTo>
                    <a:pt x="19" y="115"/>
                  </a:lnTo>
                  <a:lnTo>
                    <a:pt x="14" y="105"/>
                  </a:lnTo>
                  <a:lnTo>
                    <a:pt x="13" y="91"/>
                  </a:lnTo>
                  <a:lnTo>
                    <a:pt x="72" y="74"/>
                  </a:lnTo>
                  <a:lnTo>
                    <a:pt x="83" y="59"/>
                  </a:lnTo>
                  <a:lnTo>
                    <a:pt x="108" y="57"/>
                  </a:lnTo>
                  <a:lnTo>
                    <a:pt x="130" y="40"/>
                  </a:lnTo>
                  <a:lnTo>
                    <a:pt x="140" y="17"/>
                  </a:lnTo>
                  <a:lnTo>
                    <a:pt x="180" y="27"/>
                  </a:lnTo>
                  <a:lnTo>
                    <a:pt x="197" y="26"/>
                  </a:lnTo>
                  <a:lnTo>
                    <a:pt x="205" y="17"/>
                  </a:lnTo>
                  <a:lnTo>
                    <a:pt x="214" y="0"/>
                  </a:lnTo>
                  <a:lnTo>
                    <a:pt x="234" y="0"/>
                  </a:lnTo>
                  <a:lnTo>
                    <a:pt x="253" y="2"/>
                  </a:lnTo>
                  <a:lnTo>
                    <a:pt x="286" y="17"/>
                  </a:lnTo>
                  <a:lnTo>
                    <a:pt x="277" y="45"/>
                  </a:lnTo>
                  <a:lnTo>
                    <a:pt x="284" y="66"/>
                  </a:lnTo>
                  <a:lnTo>
                    <a:pt x="324" y="80"/>
                  </a:lnTo>
                  <a:lnTo>
                    <a:pt x="374" y="87"/>
                  </a:lnTo>
                  <a:lnTo>
                    <a:pt x="398" y="96"/>
                  </a:lnTo>
                  <a:lnTo>
                    <a:pt x="415" y="113"/>
                  </a:lnTo>
                  <a:lnTo>
                    <a:pt x="412" y="126"/>
                  </a:lnTo>
                  <a:lnTo>
                    <a:pt x="402" y="136"/>
                  </a:lnTo>
                  <a:lnTo>
                    <a:pt x="391" y="144"/>
                  </a:lnTo>
                  <a:lnTo>
                    <a:pt x="395" y="160"/>
                  </a:lnTo>
                  <a:lnTo>
                    <a:pt x="437" y="193"/>
                  </a:lnTo>
                  <a:lnTo>
                    <a:pt x="495" y="205"/>
                  </a:lnTo>
                  <a:lnTo>
                    <a:pt x="502" y="218"/>
                  </a:lnTo>
                  <a:lnTo>
                    <a:pt x="517" y="222"/>
                  </a:lnTo>
                  <a:lnTo>
                    <a:pt x="554" y="222"/>
                  </a:lnTo>
                  <a:lnTo>
                    <a:pt x="597" y="242"/>
                  </a:lnTo>
                  <a:lnTo>
                    <a:pt x="624" y="244"/>
                  </a:lnTo>
                  <a:lnTo>
                    <a:pt x="649" y="244"/>
                  </a:lnTo>
                  <a:lnTo>
                    <a:pt x="656" y="217"/>
                  </a:lnTo>
                  <a:lnTo>
                    <a:pt x="655" y="204"/>
                  </a:lnTo>
                  <a:lnTo>
                    <a:pt x="649" y="19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5080" y="5051160"/>
              <a:ext cx="446040" cy="300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281" y="172"/>
                  </a:moveTo>
                  <a:lnTo>
                    <a:pt x="281" y="184"/>
                  </a:lnTo>
                  <a:lnTo>
                    <a:pt x="273" y="189"/>
                  </a:lnTo>
                  <a:lnTo>
                    <a:pt x="247" y="189"/>
                  </a:lnTo>
                  <a:lnTo>
                    <a:pt x="229" y="189"/>
                  </a:lnTo>
                  <a:lnTo>
                    <a:pt x="213" y="185"/>
                  </a:lnTo>
                  <a:lnTo>
                    <a:pt x="201" y="189"/>
                  </a:lnTo>
                  <a:lnTo>
                    <a:pt x="186" y="189"/>
                  </a:lnTo>
                  <a:lnTo>
                    <a:pt x="186" y="171"/>
                  </a:lnTo>
                  <a:lnTo>
                    <a:pt x="173" y="155"/>
                  </a:lnTo>
                  <a:lnTo>
                    <a:pt x="154" y="155"/>
                  </a:lnTo>
                  <a:lnTo>
                    <a:pt x="139" y="160"/>
                  </a:lnTo>
                  <a:lnTo>
                    <a:pt x="139" y="172"/>
                  </a:lnTo>
                  <a:lnTo>
                    <a:pt x="114" y="167"/>
                  </a:lnTo>
                  <a:lnTo>
                    <a:pt x="95" y="151"/>
                  </a:lnTo>
                  <a:lnTo>
                    <a:pt x="58" y="110"/>
                  </a:lnTo>
                  <a:lnTo>
                    <a:pt x="50" y="78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8" y="24"/>
                  </a:lnTo>
                  <a:lnTo>
                    <a:pt x="37" y="34"/>
                  </a:lnTo>
                  <a:lnTo>
                    <a:pt x="63" y="34"/>
                  </a:lnTo>
                  <a:lnTo>
                    <a:pt x="117" y="16"/>
                  </a:lnTo>
                  <a:lnTo>
                    <a:pt x="164" y="0"/>
                  </a:lnTo>
                  <a:lnTo>
                    <a:pt x="188" y="4"/>
                  </a:lnTo>
                  <a:lnTo>
                    <a:pt x="213" y="19"/>
                  </a:lnTo>
                  <a:lnTo>
                    <a:pt x="226" y="19"/>
                  </a:lnTo>
                  <a:lnTo>
                    <a:pt x="238" y="20"/>
                  </a:lnTo>
                  <a:lnTo>
                    <a:pt x="251" y="28"/>
                  </a:lnTo>
                  <a:lnTo>
                    <a:pt x="255" y="41"/>
                  </a:lnTo>
                  <a:lnTo>
                    <a:pt x="251" y="56"/>
                  </a:lnTo>
                  <a:lnTo>
                    <a:pt x="248" y="74"/>
                  </a:lnTo>
                  <a:lnTo>
                    <a:pt x="248" y="90"/>
                  </a:lnTo>
                  <a:lnTo>
                    <a:pt x="259" y="102"/>
                  </a:lnTo>
                  <a:lnTo>
                    <a:pt x="281" y="110"/>
                  </a:lnTo>
                  <a:lnTo>
                    <a:pt x="279" y="121"/>
                  </a:lnTo>
                  <a:lnTo>
                    <a:pt x="268" y="133"/>
                  </a:lnTo>
                  <a:lnTo>
                    <a:pt x="256" y="142"/>
                  </a:lnTo>
                  <a:lnTo>
                    <a:pt x="255" y="155"/>
                  </a:lnTo>
                  <a:lnTo>
                    <a:pt x="262" y="171"/>
                  </a:lnTo>
                  <a:lnTo>
                    <a:pt x="281" y="172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2558880"/>
              <a:ext cx="2022480" cy="1527120"/>
            </a:xfrm>
            <a:custGeom>
              <a:avLst/>
              <a:gdLst/>
              <a:ahLst/>
              <a:rect l="l" t="t" r="r" b="b"/>
              <a:pathLst>
                <a:path w="1274" h="962">
                  <a:moveTo>
                    <a:pt x="554" y="24"/>
                  </a:moveTo>
                  <a:lnTo>
                    <a:pt x="618" y="14"/>
                  </a:lnTo>
                  <a:lnTo>
                    <a:pt x="634" y="13"/>
                  </a:lnTo>
                  <a:lnTo>
                    <a:pt x="652" y="13"/>
                  </a:lnTo>
                  <a:lnTo>
                    <a:pt x="683" y="24"/>
                  </a:lnTo>
                  <a:lnTo>
                    <a:pt x="721" y="77"/>
                  </a:lnTo>
                  <a:lnTo>
                    <a:pt x="751" y="100"/>
                  </a:lnTo>
                  <a:lnTo>
                    <a:pt x="790" y="115"/>
                  </a:lnTo>
                  <a:lnTo>
                    <a:pt x="799" y="132"/>
                  </a:lnTo>
                  <a:lnTo>
                    <a:pt x="804" y="151"/>
                  </a:lnTo>
                  <a:lnTo>
                    <a:pt x="816" y="167"/>
                  </a:lnTo>
                  <a:lnTo>
                    <a:pt x="830" y="167"/>
                  </a:lnTo>
                  <a:lnTo>
                    <a:pt x="838" y="177"/>
                  </a:lnTo>
                  <a:lnTo>
                    <a:pt x="855" y="174"/>
                  </a:lnTo>
                  <a:lnTo>
                    <a:pt x="870" y="160"/>
                  </a:lnTo>
                  <a:lnTo>
                    <a:pt x="886" y="164"/>
                  </a:lnTo>
                  <a:lnTo>
                    <a:pt x="902" y="173"/>
                  </a:lnTo>
                  <a:lnTo>
                    <a:pt x="919" y="178"/>
                  </a:lnTo>
                  <a:lnTo>
                    <a:pt x="943" y="172"/>
                  </a:lnTo>
                  <a:lnTo>
                    <a:pt x="988" y="189"/>
                  </a:lnTo>
                  <a:lnTo>
                    <a:pt x="1002" y="197"/>
                  </a:lnTo>
                  <a:lnTo>
                    <a:pt x="1025" y="195"/>
                  </a:lnTo>
                  <a:lnTo>
                    <a:pt x="1045" y="200"/>
                  </a:lnTo>
                  <a:lnTo>
                    <a:pt x="1063" y="213"/>
                  </a:lnTo>
                  <a:lnTo>
                    <a:pt x="1098" y="241"/>
                  </a:lnTo>
                  <a:lnTo>
                    <a:pt x="1114" y="246"/>
                  </a:lnTo>
                  <a:lnTo>
                    <a:pt x="1125" y="259"/>
                  </a:lnTo>
                  <a:lnTo>
                    <a:pt x="1138" y="265"/>
                  </a:lnTo>
                  <a:lnTo>
                    <a:pt x="1159" y="264"/>
                  </a:lnTo>
                  <a:lnTo>
                    <a:pt x="1181" y="271"/>
                  </a:lnTo>
                  <a:lnTo>
                    <a:pt x="1198" y="286"/>
                  </a:lnTo>
                  <a:lnTo>
                    <a:pt x="1215" y="298"/>
                  </a:lnTo>
                  <a:lnTo>
                    <a:pt x="1239" y="298"/>
                  </a:lnTo>
                  <a:lnTo>
                    <a:pt x="1253" y="306"/>
                  </a:lnTo>
                  <a:lnTo>
                    <a:pt x="1274" y="310"/>
                  </a:lnTo>
                  <a:lnTo>
                    <a:pt x="1253" y="347"/>
                  </a:lnTo>
                  <a:lnTo>
                    <a:pt x="1237" y="364"/>
                  </a:lnTo>
                  <a:lnTo>
                    <a:pt x="1210" y="372"/>
                  </a:lnTo>
                  <a:lnTo>
                    <a:pt x="1190" y="373"/>
                  </a:lnTo>
                  <a:lnTo>
                    <a:pt x="1174" y="369"/>
                  </a:lnTo>
                  <a:lnTo>
                    <a:pt x="1138" y="360"/>
                  </a:lnTo>
                  <a:lnTo>
                    <a:pt x="1125" y="377"/>
                  </a:lnTo>
                  <a:lnTo>
                    <a:pt x="1106" y="385"/>
                  </a:lnTo>
                  <a:lnTo>
                    <a:pt x="1066" y="398"/>
                  </a:lnTo>
                  <a:lnTo>
                    <a:pt x="1081" y="446"/>
                  </a:lnTo>
                  <a:lnTo>
                    <a:pt x="1098" y="462"/>
                  </a:lnTo>
                  <a:lnTo>
                    <a:pt x="1123" y="474"/>
                  </a:lnTo>
                  <a:lnTo>
                    <a:pt x="1127" y="497"/>
                  </a:lnTo>
                  <a:lnTo>
                    <a:pt x="1121" y="516"/>
                  </a:lnTo>
                  <a:lnTo>
                    <a:pt x="1119" y="537"/>
                  </a:lnTo>
                  <a:lnTo>
                    <a:pt x="1138" y="553"/>
                  </a:lnTo>
                  <a:lnTo>
                    <a:pt x="1140" y="566"/>
                  </a:lnTo>
                  <a:lnTo>
                    <a:pt x="1128" y="576"/>
                  </a:lnTo>
                  <a:lnTo>
                    <a:pt x="1146" y="581"/>
                  </a:lnTo>
                  <a:lnTo>
                    <a:pt x="1141" y="601"/>
                  </a:lnTo>
                  <a:lnTo>
                    <a:pt x="1140" y="606"/>
                  </a:lnTo>
                  <a:lnTo>
                    <a:pt x="1153" y="611"/>
                  </a:lnTo>
                  <a:lnTo>
                    <a:pt x="1133" y="643"/>
                  </a:lnTo>
                  <a:lnTo>
                    <a:pt x="1123" y="679"/>
                  </a:lnTo>
                  <a:lnTo>
                    <a:pt x="1097" y="684"/>
                  </a:lnTo>
                  <a:lnTo>
                    <a:pt x="1068" y="684"/>
                  </a:lnTo>
                  <a:lnTo>
                    <a:pt x="1042" y="688"/>
                  </a:lnTo>
                  <a:lnTo>
                    <a:pt x="1025" y="706"/>
                  </a:lnTo>
                  <a:lnTo>
                    <a:pt x="1029" y="726"/>
                  </a:lnTo>
                  <a:lnTo>
                    <a:pt x="1038" y="743"/>
                  </a:lnTo>
                  <a:lnTo>
                    <a:pt x="1042" y="758"/>
                  </a:lnTo>
                  <a:lnTo>
                    <a:pt x="1025" y="775"/>
                  </a:lnTo>
                  <a:lnTo>
                    <a:pt x="1037" y="803"/>
                  </a:lnTo>
                  <a:lnTo>
                    <a:pt x="1051" y="838"/>
                  </a:lnTo>
                  <a:lnTo>
                    <a:pt x="1042" y="855"/>
                  </a:lnTo>
                  <a:lnTo>
                    <a:pt x="1036" y="864"/>
                  </a:lnTo>
                  <a:lnTo>
                    <a:pt x="1019" y="866"/>
                  </a:lnTo>
                  <a:lnTo>
                    <a:pt x="977" y="853"/>
                  </a:lnTo>
                  <a:lnTo>
                    <a:pt x="943" y="895"/>
                  </a:lnTo>
                  <a:lnTo>
                    <a:pt x="922" y="896"/>
                  </a:lnTo>
                  <a:lnTo>
                    <a:pt x="909" y="912"/>
                  </a:lnTo>
                  <a:lnTo>
                    <a:pt x="850" y="930"/>
                  </a:lnTo>
                  <a:lnTo>
                    <a:pt x="821" y="927"/>
                  </a:lnTo>
                  <a:lnTo>
                    <a:pt x="808" y="931"/>
                  </a:lnTo>
                  <a:lnTo>
                    <a:pt x="804" y="946"/>
                  </a:lnTo>
                  <a:lnTo>
                    <a:pt x="804" y="962"/>
                  </a:lnTo>
                  <a:lnTo>
                    <a:pt x="790" y="962"/>
                  </a:lnTo>
                  <a:lnTo>
                    <a:pt x="776" y="962"/>
                  </a:lnTo>
                  <a:lnTo>
                    <a:pt x="751" y="951"/>
                  </a:lnTo>
                  <a:lnTo>
                    <a:pt x="753" y="935"/>
                  </a:lnTo>
                  <a:lnTo>
                    <a:pt x="770" y="930"/>
                  </a:lnTo>
                  <a:lnTo>
                    <a:pt x="772" y="913"/>
                  </a:lnTo>
                  <a:lnTo>
                    <a:pt x="766" y="896"/>
                  </a:lnTo>
                  <a:lnTo>
                    <a:pt x="764" y="877"/>
                  </a:lnTo>
                  <a:lnTo>
                    <a:pt x="776" y="860"/>
                  </a:lnTo>
                  <a:lnTo>
                    <a:pt x="749" y="843"/>
                  </a:lnTo>
                  <a:lnTo>
                    <a:pt x="730" y="839"/>
                  </a:lnTo>
                  <a:lnTo>
                    <a:pt x="703" y="838"/>
                  </a:lnTo>
                  <a:lnTo>
                    <a:pt x="713" y="839"/>
                  </a:lnTo>
                  <a:lnTo>
                    <a:pt x="703" y="838"/>
                  </a:lnTo>
                  <a:lnTo>
                    <a:pt x="696" y="825"/>
                  </a:lnTo>
                  <a:lnTo>
                    <a:pt x="699" y="812"/>
                  </a:lnTo>
                  <a:lnTo>
                    <a:pt x="716" y="787"/>
                  </a:lnTo>
                  <a:lnTo>
                    <a:pt x="722" y="767"/>
                  </a:lnTo>
                  <a:lnTo>
                    <a:pt x="695" y="753"/>
                  </a:lnTo>
                  <a:lnTo>
                    <a:pt x="684" y="738"/>
                  </a:lnTo>
                  <a:lnTo>
                    <a:pt x="661" y="725"/>
                  </a:lnTo>
                  <a:lnTo>
                    <a:pt x="647" y="708"/>
                  </a:lnTo>
                  <a:lnTo>
                    <a:pt x="656" y="684"/>
                  </a:lnTo>
                  <a:lnTo>
                    <a:pt x="630" y="662"/>
                  </a:lnTo>
                  <a:lnTo>
                    <a:pt x="614" y="657"/>
                  </a:lnTo>
                  <a:lnTo>
                    <a:pt x="595" y="656"/>
                  </a:lnTo>
                  <a:lnTo>
                    <a:pt x="595" y="637"/>
                  </a:lnTo>
                  <a:lnTo>
                    <a:pt x="609" y="620"/>
                  </a:lnTo>
                  <a:lnTo>
                    <a:pt x="595" y="604"/>
                  </a:lnTo>
                  <a:lnTo>
                    <a:pt x="595" y="581"/>
                  </a:lnTo>
                  <a:lnTo>
                    <a:pt x="619" y="574"/>
                  </a:lnTo>
                  <a:lnTo>
                    <a:pt x="636" y="553"/>
                  </a:lnTo>
                  <a:lnTo>
                    <a:pt x="632" y="536"/>
                  </a:lnTo>
                  <a:lnTo>
                    <a:pt x="616" y="527"/>
                  </a:lnTo>
                  <a:lnTo>
                    <a:pt x="595" y="537"/>
                  </a:lnTo>
                  <a:lnTo>
                    <a:pt x="579" y="555"/>
                  </a:lnTo>
                  <a:lnTo>
                    <a:pt x="565" y="567"/>
                  </a:lnTo>
                  <a:lnTo>
                    <a:pt x="535" y="558"/>
                  </a:lnTo>
                  <a:lnTo>
                    <a:pt x="511" y="523"/>
                  </a:lnTo>
                  <a:lnTo>
                    <a:pt x="495" y="513"/>
                  </a:lnTo>
                  <a:lnTo>
                    <a:pt x="469" y="519"/>
                  </a:lnTo>
                  <a:lnTo>
                    <a:pt x="456" y="536"/>
                  </a:lnTo>
                  <a:lnTo>
                    <a:pt x="437" y="533"/>
                  </a:lnTo>
                  <a:lnTo>
                    <a:pt x="420" y="536"/>
                  </a:lnTo>
                  <a:lnTo>
                    <a:pt x="424" y="549"/>
                  </a:lnTo>
                  <a:lnTo>
                    <a:pt x="435" y="561"/>
                  </a:lnTo>
                  <a:lnTo>
                    <a:pt x="456" y="581"/>
                  </a:lnTo>
                  <a:lnTo>
                    <a:pt x="456" y="598"/>
                  </a:lnTo>
                  <a:lnTo>
                    <a:pt x="458" y="617"/>
                  </a:lnTo>
                  <a:lnTo>
                    <a:pt x="462" y="632"/>
                  </a:lnTo>
                  <a:lnTo>
                    <a:pt x="461" y="649"/>
                  </a:lnTo>
                  <a:lnTo>
                    <a:pt x="440" y="661"/>
                  </a:lnTo>
                  <a:lnTo>
                    <a:pt x="415" y="662"/>
                  </a:lnTo>
                  <a:lnTo>
                    <a:pt x="407" y="656"/>
                  </a:lnTo>
                  <a:lnTo>
                    <a:pt x="391" y="670"/>
                  </a:lnTo>
                  <a:lnTo>
                    <a:pt x="368" y="676"/>
                  </a:lnTo>
                  <a:lnTo>
                    <a:pt x="329" y="689"/>
                  </a:lnTo>
                  <a:lnTo>
                    <a:pt x="306" y="684"/>
                  </a:lnTo>
                  <a:lnTo>
                    <a:pt x="294" y="667"/>
                  </a:lnTo>
                  <a:lnTo>
                    <a:pt x="315" y="658"/>
                  </a:lnTo>
                  <a:lnTo>
                    <a:pt x="329" y="640"/>
                  </a:lnTo>
                  <a:lnTo>
                    <a:pt x="316" y="633"/>
                  </a:lnTo>
                  <a:lnTo>
                    <a:pt x="314" y="620"/>
                  </a:lnTo>
                  <a:lnTo>
                    <a:pt x="315" y="607"/>
                  </a:lnTo>
                  <a:lnTo>
                    <a:pt x="314" y="593"/>
                  </a:lnTo>
                  <a:lnTo>
                    <a:pt x="322" y="588"/>
                  </a:lnTo>
                  <a:lnTo>
                    <a:pt x="294" y="565"/>
                  </a:lnTo>
                  <a:lnTo>
                    <a:pt x="255" y="553"/>
                  </a:lnTo>
                  <a:lnTo>
                    <a:pt x="247" y="541"/>
                  </a:lnTo>
                  <a:lnTo>
                    <a:pt x="233" y="531"/>
                  </a:lnTo>
                  <a:lnTo>
                    <a:pt x="223" y="533"/>
                  </a:lnTo>
                  <a:lnTo>
                    <a:pt x="221" y="542"/>
                  </a:lnTo>
                  <a:lnTo>
                    <a:pt x="215" y="558"/>
                  </a:lnTo>
                  <a:lnTo>
                    <a:pt x="152" y="589"/>
                  </a:lnTo>
                  <a:lnTo>
                    <a:pt x="121" y="602"/>
                  </a:lnTo>
                  <a:lnTo>
                    <a:pt x="106" y="605"/>
                  </a:lnTo>
                  <a:lnTo>
                    <a:pt x="87" y="605"/>
                  </a:lnTo>
                  <a:lnTo>
                    <a:pt x="82" y="584"/>
                  </a:lnTo>
                  <a:lnTo>
                    <a:pt x="82" y="566"/>
                  </a:lnTo>
                  <a:lnTo>
                    <a:pt x="67" y="531"/>
                  </a:lnTo>
                  <a:lnTo>
                    <a:pt x="38" y="535"/>
                  </a:lnTo>
                  <a:lnTo>
                    <a:pt x="24" y="532"/>
                  </a:lnTo>
                  <a:lnTo>
                    <a:pt x="7" y="531"/>
                  </a:lnTo>
                  <a:lnTo>
                    <a:pt x="0" y="514"/>
                  </a:lnTo>
                  <a:lnTo>
                    <a:pt x="2" y="493"/>
                  </a:lnTo>
                  <a:lnTo>
                    <a:pt x="12" y="457"/>
                  </a:lnTo>
                  <a:lnTo>
                    <a:pt x="34" y="462"/>
                  </a:lnTo>
                  <a:lnTo>
                    <a:pt x="55" y="459"/>
                  </a:lnTo>
                  <a:lnTo>
                    <a:pt x="81" y="462"/>
                  </a:lnTo>
                  <a:lnTo>
                    <a:pt x="99" y="396"/>
                  </a:lnTo>
                  <a:lnTo>
                    <a:pt x="134" y="330"/>
                  </a:lnTo>
                  <a:lnTo>
                    <a:pt x="128" y="306"/>
                  </a:lnTo>
                  <a:lnTo>
                    <a:pt x="129" y="278"/>
                  </a:lnTo>
                  <a:lnTo>
                    <a:pt x="139" y="224"/>
                  </a:lnTo>
                  <a:lnTo>
                    <a:pt x="129" y="210"/>
                  </a:lnTo>
                  <a:lnTo>
                    <a:pt x="108" y="204"/>
                  </a:lnTo>
                  <a:lnTo>
                    <a:pt x="90" y="199"/>
                  </a:lnTo>
                  <a:lnTo>
                    <a:pt x="85" y="190"/>
                  </a:lnTo>
                  <a:lnTo>
                    <a:pt x="87" y="177"/>
                  </a:lnTo>
                  <a:lnTo>
                    <a:pt x="85" y="160"/>
                  </a:lnTo>
                  <a:lnTo>
                    <a:pt x="90" y="143"/>
                  </a:lnTo>
                  <a:lnTo>
                    <a:pt x="100" y="132"/>
                  </a:lnTo>
                  <a:lnTo>
                    <a:pt x="120" y="126"/>
                  </a:lnTo>
                  <a:lnTo>
                    <a:pt x="110" y="116"/>
                  </a:lnTo>
                  <a:lnTo>
                    <a:pt x="108" y="104"/>
                  </a:lnTo>
                  <a:lnTo>
                    <a:pt x="126" y="86"/>
                  </a:lnTo>
                  <a:lnTo>
                    <a:pt x="152" y="77"/>
                  </a:lnTo>
                  <a:lnTo>
                    <a:pt x="184" y="76"/>
                  </a:lnTo>
                  <a:lnTo>
                    <a:pt x="215" y="76"/>
                  </a:lnTo>
                  <a:lnTo>
                    <a:pt x="229" y="78"/>
                  </a:lnTo>
                  <a:lnTo>
                    <a:pt x="246" y="77"/>
                  </a:lnTo>
                  <a:lnTo>
                    <a:pt x="277" y="69"/>
                  </a:lnTo>
                  <a:lnTo>
                    <a:pt x="310" y="63"/>
                  </a:lnTo>
                  <a:lnTo>
                    <a:pt x="327" y="60"/>
                  </a:lnTo>
                  <a:lnTo>
                    <a:pt x="348" y="64"/>
                  </a:lnTo>
                  <a:lnTo>
                    <a:pt x="370" y="104"/>
                  </a:lnTo>
                  <a:lnTo>
                    <a:pt x="380" y="124"/>
                  </a:lnTo>
                  <a:lnTo>
                    <a:pt x="383" y="137"/>
                  </a:lnTo>
                  <a:lnTo>
                    <a:pt x="381" y="150"/>
                  </a:lnTo>
                  <a:lnTo>
                    <a:pt x="368" y="155"/>
                  </a:lnTo>
                  <a:lnTo>
                    <a:pt x="385" y="169"/>
                  </a:lnTo>
                  <a:lnTo>
                    <a:pt x="407" y="184"/>
                  </a:lnTo>
                  <a:lnTo>
                    <a:pt x="420" y="167"/>
                  </a:lnTo>
                  <a:lnTo>
                    <a:pt x="420" y="143"/>
                  </a:lnTo>
                  <a:lnTo>
                    <a:pt x="402" y="130"/>
                  </a:lnTo>
                  <a:lnTo>
                    <a:pt x="407" y="109"/>
                  </a:lnTo>
                  <a:lnTo>
                    <a:pt x="427" y="106"/>
                  </a:lnTo>
                  <a:lnTo>
                    <a:pt x="445" y="115"/>
                  </a:lnTo>
                  <a:lnTo>
                    <a:pt x="462" y="124"/>
                  </a:lnTo>
                  <a:lnTo>
                    <a:pt x="483" y="121"/>
                  </a:lnTo>
                  <a:lnTo>
                    <a:pt x="470" y="91"/>
                  </a:lnTo>
                  <a:lnTo>
                    <a:pt x="470" y="77"/>
                  </a:lnTo>
                  <a:lnTo>
                    <a:pt x="474" y="60"/>
                  </a:lnTo>
                  <a:lnTo>
                    <a:pt x="496" y="0"/>
                  </a:lnTo>
                  <a:lnTo>
                    <a:pt x="514" y="0"/>
                  </a:lnTo>
                  <a:lnTo>
                    <a:pt x="527" y="5"/>
                  </a:lnTo>
                  <a:lnTo>
                    <a:pt x="554" y="24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2798640"/>
              <a:ext cx="1427400" cy="1209600"/>
            </a:xfrm>
            <a:custGeom>
              <a:avLst/>
              <a:gdLst/>
              <a:ahLst/>
              <a:rect l="l" t="t" r="r" b="b"/>
              <a:pathLst>
                <a:path w="899" h="762">
                  <a:moveTo>
                    <a:pt x="765" y="17"/>
                  </a:moveTo>
                  <a:lnTo>
                    <a:pt x="772" y="35"/>
                  </a:lnTo>
                  <a:lnTo>
                    <a:pt x="772" y="55"/>
                  </a:lnTo>
                  <a:lnTo>
                    <a:pt x="757" y="91"/>
                  </a:lnTo>
                  <a:lnTo>
                    <a:pt x="752" y="129"/>
                  </a:lnTo>
                  <a:lnTo>
                    <a:pt x="715" y="159"/>
                  </a:lnTo>
                  <a:lnTo>
                    <a:pt x="705" y="174"/>
                  </a:lnTo>
                  <a:lnTo>
                    <a:pt x="702" y="185"/>
                  </a:lnTo>
                  <a:lnTo>
                    <a:pt x="705" y="199"/>
                  </a:lnTo>
                  <a:lnTo>
                    <a:pt x="770" y="243"/>
                  </a:lnTo>
                  <a:lnTo>
                    <a:pt x="798" y="265"/>
                  </a:lnTo>
                  <a:lnTo>
                    <a:pt x="839" y="284"/>
                  </a:lnTo>
                  <a:lnTo>
                    <a:pt x="848" y="299"/>
                  </a:lnTo>
                  <a:lnTo>
                    <a:pt x="849" y="315"/>
                  </a:lnTo>
                  <a:lnTo>
                    <a:pt x="835" y="346"/>
                  </a:lnTo>
                  <a:lnTo>
                    <a:pt x="824" y="375"/>
                  </a:lnTo>
                  <a:lnTo>
                    <a:pt x="844" y="403"/>
                  </a:lnTo>
                  <a:lnTo>
                    <a:pt x="869" y="416"/>
                  </a:lnTo>
                  <a:lnTo>
                    <a:pt x="879" y="438"/>
                  </a:lnTo>
                  <a:lnTo>
                    <a:pt x="878" y="462"/>
                  </a:lnTo>
                  <a:lnTo>
                    <a:pt x="882" y="490"/>
                  </a:lnTo>
                  <a:lnTo>
                    <a:pt x="886" y="518"/>
                  </a:lnTo>
                  <a:lnTo>
                    <a:pt x="886" y="532"/>
                  </a:lnTo>
                  <a:lnTo>
                    <a:pt x="879" y="548"/>
                  </a:lnTo>
                  <a:lnTo>
                    <a:pt x="861" y="570"/>
                  </a:lnTo>
                  <a:lnTo>
                    <a:pt x="882" y="605"/>
                  </a:lnTo>
                  <a:lnTo>
                    <a:pt x="895" y="627"/>
                  </a:lnTo>
                  <a:lnTo>
                    <a:pt x="899" y="641"/>
                  </a:lnTo>
                  <a:lnTo>
                    <a:pt x="899" y="659"/>
                  </a:lnTo>
                  <a:lnTo>
                    <a:pt x="882" y="676"/>
                  </a:lnTo>
                  <a:lnTo>
                    <a:pt x="852" y="681"/>
                  </a:lnTo>
                  <a:lnTo>
                    <a:pt x="822" y="685"/>
                  </a:lnTo>
                  <a:lnTo>
                    <a:pt x="793" y="700"/>
                  </a:lnTo>
                  <a:lnTo>
                    <a:pt x="755" y="691"/>
                  </a:lnTo>
                  <a:lnTo>
                    <a:pt x="740" y="693"/>
                  </a:lnTo>
                  <a:lnTo>
                    <a:pt x="731" y="711"/>
                  </a:lnTo>
                  <a:lnTo>
                    <a:pt x="719" y="718"/>
                  </a:lnTo>
                  <a:lnTo>
                    <a:pt x="718" y="731"/>
                  </a:lnTo>
                  <a:lnTo>
                    <a:pt x="718" y="762"/>
                  </a:lnTo>
                  <a:lnTo>
                    <a:pt x="700" y="762"/>
                  </a:lnTo>
                  <a:lnTo>
                    <a:pt x="680" y="762"/>
                  </a:lnTo>
                  <a:lnTo>
                    <a:pt x="636" y="762"/>
                  </a:lnTo>
                  <a:lnTo>
                    <a:pt x="595" y="759"/>
                  </a:lnTo>
                  <a:lnTo>
                    <a:pt x="558" y="745"/>
                  </a:lnTo>
                  <a:lnTo>
                    <a:pt x="519" y="753"/>
                  </a:lnTo>
                  <a:lnTo>
                    <a:pt x="502" y="758"/>
                  </a:lnTo>
                  <a:lnTo>
                    <a:pt x="477" y="757"/>
                  </a:lnTo>
                  <a:lnTo>
                    <a:pt x="477" y="735"/>
                  </a:lnTo>
                  <a:lnTo>
                    <a:pt x="477" y="713"/>
                  </a:lnTo>
                  <a:lnTo>
                    <a:pt x="450" y="671"/>
                  </a:lnTo>
                  <a:lnTo>
                    <a:pt x="463" y="648"/>
                  </a:lnTo>
                  <a:lnTo>
                    <a:pt x="471" y="632"/>
                  </a:lnTo>
                  <a:lnTo>
                    <a:pt x="463" y="615"/>
                  </a:lnTo>
                  <a:lnTo>
                    <a:pt x="445" y="592"/>
                  </a:lnTo>
                  <a:lnTo>
                    <a:pt x="419" y="576"/>
                  </a:lnTo>
                  <a:lnTo>
                    <a:pt x="363" y="553"/>
                  </a:lnTo>
                  <a:lnTo>
                    <a:pt x="342" y="544"/>
                  </a:lnTo>
                  <a:lnTo>
                    <a:pt x="318" y="545"/>
                  </a:lnTo>
                  <a:lnTo>
                    <a:pt x="298" y="545"/>
                  </a:lnTo>
                  <a:lnTo>
                    <a:pt x="274" y="535"/>
                  </a:lnTo>
                  <a:lnTo>
                    <a:pt x="260" y="536"/>
                  </a:lnTo>
                  <a:lnTo>
                    <a:pt x="247" y="532"/>
                  </a:lnTo>
                  <a:lnTo>
                    <a:pt x="226" y="516"/>
                  </a:lnTo>
                  <a:lnTo>
                    <a:pt x="197" y="476"/>
                  </a:lnTo>
                  <a:lnTo>
                    <a:pt x="207" y="412"/>
                  </a:lnTo>
                  <a:lnTo>
                    <a:pt x="207" y="397"/>
                  </a:lnTo>
                  <a:lnTo>
                    <a:pt x="207" y="378"/>
                  </a:lnTo>
                  <a:lnTo>
                    <a:pt x="197" y="347"/>
                  </a:lnTo>
                  <a:lnTo>
                    <a:pt x="175" y="347"/>
                  </a:lnTo>
                  <a:lnTo>
                    <a:pt x="175" y="333"/>
                  </a:lnTo>
                  <a:lnTo>
                    <a:pt x="173" y="315"/>
                  </a:lnTo>
                  <a:lnTo>
                    <a:pt x="178" y="302"/>
                  </a:lnTo>
                  <a:lnTo>
                    <a:pt x="197" y="295"/>
                  </a:lnTo>
                  <a:lnTo>
                    <a:pt x="181" y="229"/>
                  </a:lnTo>
                  <a:lnTo>
                    <a:pt x="160" y="211"/>
                  </a:lnTo>
                  <a:lnTo>
                    <a:pt x="140" y="207"/>
                  </a:lnTo>
                  <a:lnTo>
                    <a:pt x="116" y="209"/>
                  </a:lnTo>
                  <a:lnTo>
                    <a:pt x="101" y="211"/>
                  </a:lnTo>
                  <a:lnTo>
                    <a:pt x="92" y="207"/>
                  </a:lnTo>
                  <a:lnTo>
                    <a:pt x="82" y="190"/>
                  </a:lnTo>
                  <a:lnTo>
                    <a:pt x="70" y="170"/>
                  </a:lnTo>
                  <a:lnTo>
                    <a:pt x="57" y="164"/>
                  </a:lnTo>
                  <a:lnTo>
                    <a:pt x="35" y="164"/>
                  </a:lnTo>
                  <a:lnTo>
                    <a:pt x="35" y="150"/>
                  </a:lnTo>
                  <a:lnTo>
                    <a:pt x="28" y="138"/>
                  </a:lnTo>
                  <a:lnTo>
                    <a:pt x="0" y="113"/>
                  </a:lnTo>
                  <a:lnTo>
                    <a:pt x="8" y="95"/>
                  </a:lnTo>
                  <a:lnTo>
                    <a:pt x="28" y="86"/>
                  </a:lnTo>
                  <a:lnTo>
                    <a:pt x="67" y="65"/>
                  </a:lnTo>
                  <a:lnTo>
                    <a:pt x="75" y="78"/>
                  </a:lnTo>
                  <a:lnTo>
                    <a:pt x="92" y="81"/>
                  </a:lnTo>
                  <a:lnTo>
                    <a:pt x="101" y="72"/>
                  </a:lnTo>
                  <a:lnTo>
                    <a:pt x="109" y="60"/>
                  </a:lnTo>
                  <a:lnTo>
                    <a:pt x="129" y="61"/>
                  </a:lnTo>
                  <a:lnTo>
                    <a:pt x="129" y="46"/>
                  </a:lnTo>
                  <a:lnTo>
                    <a:pt x="160" y="38"/>
                  </a:lnTo>
                  <a:lnTo>
                    <a:pt x="188" y="44"/>
                  </a:lnTo>
                  <a:lnTo>
                    <a:pt x="243" y="73"/>
                  </a:lnTo>
                  <a:lnTo>
                    <a:pt x="261" y="78"/>
                  </a:lnTo>
                  <a:lnTo>
                    <a:pt x="285" y="73"/>
                  </a:lnTo>
                  <a:lnTo>
                    <a:pt x="350" y="100"/>
                  </a:lnTo>
                  <a:lnTo>
                    <a:pt x="364" y="96"/>
                  </a:lnTo>
                  <a:lnTo>
                    <a:pt x="383" y="100"/>
                  </a:lnTo>
                  <a:lnTo>
                    <a:pt x="398" y="101"/>
                  </a:lnTo>
                  <a:lnTo>
                    <a:pt x="408" y="90"/>
                  </a:lnTo>
                  <a:lnTo>
                    <a:pt x="421" y="73"/>
                  </a:lnTo>
                  <a:lnTo>
                    <a:pt x="439" y="73"/>
                  </a:lnTo>
                  <a:lnTo>
                    <a:pt x="459" y="73"/>
                  </a:lnTo>
                  <a:lnTo>
                    <a:pt x="471" y="55"/>
                  </a:lnTo>
                  <a:lnTo>
                    <a:pt x="485" y="65"/>
                  </a:lnTo>
                  <a:lnTo>
                    <a:pt x="504" y="65"/>
                  </a:lnTo>
                  <a:lnTo>
                    <a:pt x="506" y="49"/>
                  </a:lnTo>
                  <a:lnTo>
                    <a:pt x="515" y="38"/>
                  </a:lnTo>
                  <a:lnTo>
                    <a:pt x="525" y="29"/>
                  </a:lnTo>
                  <a:lnTo>
                    <a:pt x="528" y="10"/>
                  </a:lnTo>
                  <a:lnTo>
                    <a:pt x="563" y="4"/>
                  </a:lnTo>
                  <a:lnTo>
                    <a:pt x="579" y="4"/>
                  </a:lnTo>
                  <a:lnTo>
                    <a:pt x="598" y="5"/>
                  </a:lnTo>
                  <a:lnTo>
                    <a:pt x="618" y="0"/>
                  </a:lnTo>
                  <a:lnTo>
                    <a:pt x="633" y="3"/>
                  </a:lnTo>
                  <a:lnTo>
                    <a:pt x="655" y="26"/>
                  </a:lnTo>
                  <a:lnTo>
                    <a:pt x="680" y="49"/>
                  </a:lnTo>
                  <a:lnTo>
                    <a:pt x="694" y="55"/>
                  </a:lnTo>
                  <a:lnTo>
                    <a:pt x="718" y="51"/>
                  </a:lnTo>
                  <a:lnTo>
                    <a:pt x="718" y="38"/>
                  </a:lnTo>
                  <a:lnTo>
                    <a:pt x="765" y="17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08800" y="3043080"/>
              <a:ext cx="1112760" cy="1224000"/>
            </a:xfrm>
            <a:custGeom>
              <a:avLst/>
              <a:gdLst/>
              <a:ahLst/>
              <a:rect l="l" t="t" r="r" b="b"/>
              <a:pathLst>
                <a:path w="701" h="771">
                  <a:moveTo>
                    <a:pt x="268" y="5"/>
                  </a:moveTo>
                  <a:lnTo>
                    <a:pt x="290" y="16"/>
                  </a:lnTo>
                  <a:lnTo>
                    <a:pt x="314" y="16"/>
                  </a:lnTo>
                  <a:lnTo>
                    <a:pt x="319" y="36"/>
                  </a:lnTo>
                  <a:lnTo>
                    <a:pt x="335" y="47"/>
                  </a:lnTo>
                  <a:lnTo>
                    <a:pt x="383" y="56"/>
                  </a:lnTo>
                  <a:lnTo>
                    <a:pt x="420" y="56"/>
                  </a:lnTo>
                  <a:lnTo>
                    <a:pt x="429" y="142"/>
                  </a:lnTo>
                  <a:lnTo>
                    <a:pt x="415" y="147"/>
                  </a:lnTo>
                  <a:lnTo>
                    <a:pt x="413" y="160"/>
                  </a:lnTo>
                  <a:lnTo>
                    <a:pt x="411" y="170"/>
                  </a:lnTo>
                  <a:lnTo>
                    <a:pt x="416" y="181"/>
                  </a:lnTo>
                  <a:lnTo>
                    <a:pt x="441" y="194"/>
                  </a:lnTo>
                  <a:lnTo>
                    <a:pt x="429" y="312"/>
                  </a:lnTo>
                  <a:lnTo>
                    <a:pt x="467" y="355"/>
                  </a:lnTo>
                  <a:lnTo>
                    <a:pt x="488" y="372"/>
                  </a:lnTo>
                  <a:lnTo>
                    <a:pt x="504" y="376"/>
                  </a:lnTo>
                  <a:lnTo>
                    <a:pt x="522" y="375"/>
                  </a:lnTo>
                  <a:lnTo>
                    <a:pt x="558" y="385"/>
                  </a:lnTo>
                  <a:lnTo>
                    <a:pt x="601" y="391"/>
                  </a:lnTo>
                  <a:lnTo>
                    <a:pt x="669" y="425"/>
                  </a:lnTo>
                  <a:lnTo>
                    <a:pt x="695" y="451"/>
                  </a:lnTo>
                  <a:lnTo>
                    <a:pt x="701" y="468"/>
                  </a:lnTo>
                  <a:lnTo>
                    <a:pt x="701" y="488"/>
                  </a:lnTo>
                  <a:lnTo>
                    <a:pt x="680" y="510"/>
                  </a:lnTo>
                  <a:lnTo>
                    <a:pt x="648" y="510"/>
                  </a:lnTo>
                  <a:lnTo>
                    <a:pt x="622" y="501"/>
                  </a:lnTo>
                  <a:lnTo>
                    <a:pt x="610" y="510"/>
                  </a:lnTo>
                  <a:lnTo>
                    <a:pt x="596" y="511"/>
                  </a:lnTo>
                  <a:lnTo>
                    <a:pt x="579" y="514"/>
                  </a:lnTo>
                  <a:lnTo>
                    <a:pt x="569" y="523"/>
                  </a:lnTo>
                  <a:lnTo>
                    <a:pt x="550" y="523"/>
                  </a:lnTo>
                  <a:lnTo>
                    <a:pt x="532" y="524"/>
                  </a:lnTo>
                  <a:lnTo>
                    <a:pt x="497" y="536"/>
                  </a:lnTo>
                  <a:lnTo>
                    <a:pt x="435" y="562"/>
                  </a:lnTo>
                  <a:lnTo>
                    <a:pt x="432" y="585"/>
                  </a:lnTo>
                  <a:lnTo>
                    <a:pt x="439" y="606"/>
                  </a:lnTo>
                  <a:lnTo>
                    <a:pt x="440" y="628"/>
                  </a:lnTo>
                  <a:lnTo>
                    <a:pt x="429" y="648"/>
                  </a:lnTo>
                  <a:lnTo>
                    <a:pt x="437" y="685"/>
                  </a:lnTo>
                  <a:lnTo>
                    <a:pt x="459" y="722"/>
                  </a:lnTo>
                  <a:lnTo>
                    <a:pt x="468" y="744"/>
                  </a:lnTo>
                  <a:lnTo>
                    <a:pt x="467" y="758"/>
                  </a:lnTo>
                  <a:lnTo>
                    <a:pt x="459" y="771"/>
                  </a:lnTo>
                  <a:lnTo>
                    <a:pt x="435" y="771"/>
                  </a:lnTo>
                  <a:lnTo>
                    <a:pt x="410" y="770"/>
                  </a:lnTo>
                  <a:lnTo>
                    <a:pt x="366" y="749"/>
                  </a:lnTo>
                  <a:lnTo>
                    <a:pt x="332" y="749"/>
                  </a:lnTo>
                  <a:lnTo>
                    <a:pt x="315" y="748"/>
                  </a:lnTo>
                  <a:lnTo>
                    <a:pt x="307" y="733"/>
                  </a:lnTo>
                  <a:lnTo>
                    <a:pt x="249" y="722"/>
                  </a:lnTo>
                  <a:lnTo>
                    <a:pt x="207" y="688"/>
                  </a:lnTo>
                  <a:lnTo>
                    <a:pt x="204" y="675"/>
                  </a:lnTo>
                  <a:lnTo>
                    <a:pt x="214" y="663"/>
                  </a:lnTo>
                  <a:lnTo>
                    <a:pt x="223" y="654"/>
                  </a:lnTo>
                  <a:lnTo>
                    <a:pt x="227" y="641"/>
                  </a:lnTo>
                  <a:lnTo>
                    <a:pt x="211" y="624"/>
                  </a:lnTo>
                  <a:lnTo>
                    <a:pt x="186" y="616"/>
                  </a:lnTo>
                  <a:lnTo>
                    <a:pt x="136" y="609"/>
                  </a:lnTo>
                  <a:lnTo>
                    <a:pt x="96" y="593"/>
                  </a:lnTo>
                  <a:lnTo>
                    <a:pt x="91" y="575"/>
                  </a:lnTo>
                  <a:lnTo>
                    <a:pt x="99" y="544"/>
                  </a:lnTo>
                  <a:lnTo>
                    <a:pt x="68" y="529"/>
                  </a:lnTo>
                  <a:lnTo>
                    <a:pt x="47" y="528"/>
                  </a:lnTo>
                  <a:lnTo>
                    <a:pt x="26" y="528"/>
                  </a:lnTo>
                  <a:lnTo>
                    <a:pt x="24" y="508"/>
                  </a:lnTo>
                  <a:lnTo>
                    <a:pt x="13" y="493"/>
                  </a:lnTo>
                  <a:lnTo>
                    <a:pt x="0" y="464"/>
                  </a:lnTo>
                  <a:lnTo>
                    <a:pt x="17" y="450"/>
                  </a:lnTo>
                  <a:lnTo>
                    <a:pt x="13" y="436"/>
                  </a:lnTo>
                  <a:lnTo>
                    <a:pt x="5" y="417"/>
                  </a:lnTo>
                  <a:lnTo>
                    <a:pt x="0" y="397"/>
                  </a:lnTo>
                  <a:lnTo>
                    <a:pt x="16" y="378"/>
                  </a:lnTo>
                  <a:lnTo>
                    <a:pt x="43" y="375"/>
                  </a:lnTo>
                  <a:lnTo>
                    <a:pt x="72" y="375"/>
                  </a:lnTo>
                  <a:lnTo>
                    <a:pt x="99" y="369"/>
                  </a:lnTo>
                  <a:lnTo>
                    <a:pt x="108" y="334"/>
                  </a:lnTo>
                  <a:lnTo>
                    <a:pt x="128" y="302"/>
                  </a:lnTo>
                  <a:lnTo>
                    <a:pt x="115" y="299"/>
                  </a:lnTo>
                  <a:lnTo>
                    <a:pt x="117" y="290"/>
                  </a:lnTo>
                  <a:lnTo>
                    <a:pt x="121" y="272"/>
                  </a:lnTo>
                  <a:lnTo>
                    <a:pt x="104" y="267"/>
                  </a:lnTo>
                  <a:lnTo>
                    <a:pt x="113" y="257"/>
                  </a:lnTo>
                  <a:lnTo>
                    <a:pt x="113" y="244"/>
                  </a:lnTo>
                  <a:lnTo>
                    <a:pt x="94" y="229"/>
                  </a:lnTo>
                  <a:lnTo>
                    <a:pt x="94" y="208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4" y="155"/>
                  </a:lnTo>
                  <a:lnTo>
                    <a:pt x="57" y="138"/>
                  </a:lnTo>
                  <a:lnTo>
                    <a:pt x="42" y="88"/>
                  </a:lnTo>
                  <a:lnTo>
                    <a:pt x="81" y="77"/>
                  </a:lnTo>
                  <a:lnTo>
                    <a:pt x="99" y="69"/>
                  </a:lnTo>
                  <a:lnTo>
                    <a:pt x="113" y="51"/>
                  </a:lnTo>
                  <a:lnTo>
                    <a:pt x="149" y="60"/>
                  </a:lnTo>
                  <a:lnTo>
                    <a:pt x="167" y="64"/>
                  </a:lnTo>
                  <a:lnTo>
                    <a:pt x="185" y="64"/>
                  </a:lnTo>
                  <a:lnTo>
                    <a:pt x="211" y="56"/>
                  </a:lnTo>
                  <a:lnTo>
                    <a:pt x="227" y="40"/>
                  </a:lnTo>
                  <a:lnTo>
                    <a:pt x="249" y="0"/>
                  </a:lnTo>
                  <a:lnTo>
                    <a:pt x="268" y="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4760" y="3835440"/>
              <a:ext cx="1314360" cy="876240"/>
            </a:xfrm>
            <a:custGeom>
              <a:avLst/>
              <a:gdLst/>
              <a:ahLst/>
              <a:rect l="l" t="t" r="r" b="b"/>
              <a:pathLst>
                <a:path w="828" h="552">
                  <a:moveTo>
                    <a:pt x="292" y="11"/>
                  </a:moveTo>
                  <a:lnTo>
                    <a:pt x="311" y="30"/>
                  </a:lnTo>
                  <a:lnTo>
                    <a:pt x="321" y="37"/>
                  </a:lnTo>
                  <a:lnTo>
                    <a:pt x="328" y="51"/>
                  </a:lnTo>
                  <a:lnTo>
                    <a:pt x="329" y="63"/>
                  </a:lnTo>
                  <a:lnTo>
                    <a:pt x="322" y="74"/>
                  </a:lnTo>
                  <a:lnTo>
                    <a:pt x="328" y="97"/>
                  </a:lnTo>
                  <a:lnTo>
                    <a:pt x="384" y="86"/>
                  </a:lnTo>
                  <a:lnTo>
                    <a:pt x="412" y="86"/>
                  </a:lnTo>
                  <a:lnTo>
                    <a:pt x="437" y="103"/>
                  </a:lnTo>
                  <a:lnTo>
                    <a:pt x="463" y="103"/>
                  </a:lnTo>
                  <a:lnTo>
                    <a:pt x="493" y="100"/>
                  </a:lnTo>
                  <a:lnTo>
                    <a:pt x="520" y="99"/>
                  </a:lnTo>
                  <a:lnTo>
                    <a:pt x="549" y="103"/>
                  </a:lnTo>
                  <a:lnTo>
                    <a:pt x="557" y="97"/>
                  </a:lnTo>
                  <a:lnTo>
                    <a:pt x="554" y="77"/>
                  </a:lnTo>
                  <a:lnTo>
                    <a:pt x="562" y="60"/>
                  </a:lnTo>
                  <a:lnTo>
                    <a:pt x="589" y="28"/>
                  </a:lnTo>
                  <a:lnTo>
                    <a:pt x="620" y="41"/>
                  </a:lnTo>
                  <a:lnTo>
                    <a:pt x="650" y="32"/>
                  </a:lnTo>
                  <a:lnTo>
                    <a:pt x="683" y="19"/>
                  </a:lnTo>
                  <a:lnTo>
                    <a:pt x="698" y="16"/>
                  </a:lnTo>
                  <a:lnTo>
                    <a:pt x="717" y="16"/>
                  </a:lnTo>
                  <a:lnTo>
                    <a:pt x="741" y="0"/>
                  </a:lnTo>
                  <a:lnTo>
                    <a:pt x="759" y="22"/>
                  </a:lnTo>
                  <a:lnTo>
                    <a:pt x="795" y="38"/>
                  </a:lnTo>
                  <a:lnTo>
                    <a:pt x="824" y="58"/>
                  </a:lnTo>
                  <a:lnTo>
                    <a:pt x="828" y="73"/>
                  </a:lnTo>
                  <a:lnTo>
                    <a:pt x="824" y="97"/>
                  </a:lnTo>
                  <a:lnTo>
                    <a:pt x="824" y="120"/>
                  </a:lnTo>
                  <a:lnTo>
                    <a:pt x="826" y="146"/>
                  </a:lnTo>
                  <a:lnTo>
                    <a:pt x="819" y="197"/>
                  </a:lnTo>
                  <a:lnTo>
                    <a:pt x="783" y="292"/>
                  </a:lnTo>
                  <a:lnTo>
                    <a:pt x="759" y="288"/>
                  </a:lnTo>
                  <a:lnTo>
                    <a:pt x="733" y="279"/>
                  </a:lnTo>
                  <a:lnTo>
                    <a:pt x="733" y="267"/>
                  </a:lnTo>
                  <a:lnTo>
                    <a:pt x="741" y="257"/>
                  </a:lnTo>
                  <a:lnTo>
                    <a:pt x="723" y="250"/>
                  </a:lnTo>
                  <a:lnTo>
                    <a:pt x="717" y="229"/>
                  </a:lnTo>
                  <a:lnTo>
                    <a:pt x="694" y="216"/>
                  </a:lnTo>
                  <a:lnTo>
                    <a:pt x="671" y="216"/>
                  </a:lnTo>
                  <a:lnTo>
                    <a:pt x="649" y="210"/>
                  </a:lnTo>
                  <a:lnTo>
                    <a:pt x="638" y="220"/>
                  </a:lnTo>
                  <a:lnTo>
                    <a:pt x="637" y="233"/>
                  </a:lnTo>
                  <a:lnTo>
                    <a:pt x="654" y="238"/>
                  </a:lnTo>
                  <a:lnTo>
                    <a:pt x="663" y="250"/>
                  </a:lnTo>
                  <a:lnTo>
                    <a:pt x="677" y="250"/>
                  </a:lnTo>
                  <a:lnTo>
                    <a:pt x="675" y="260"/>
                  </a:lnTo>
                  <a:lnTo>
                    <a:pt x="667" y="268"/>
                  </a:lnTo>
                  <a:lnTo>
                    <a:pt x="645" y="279"/>
                  </a:lnTo>
                  <a:lnTo>
                    <a:pt x="616" y="285"/>
                  </a:lnTo>
                  <a:lnTo>
                    <a:pt x="596" y="301"/>
                  </a:lnTo>
                  <a:lnTo>
                    <a:pt x="559" y="311"/>
                  </a:lnTo>
                  <a:lnTo>
                    <a:pt x="544" y="318"/>
                  </a:lnTo>
                  <a:lnTo>
                    <a:pt x="541" y="336"/>
                  </a:lnTo>
                  <a:lnTo>
                    <a:pt x="514" y="342"/>
                  </a:lnTo>
                  <a:lnTo>
                    <a:pt x="484" y="341"/>
                  </a:lnTo>
                  <a:lnTo>
                    <a:pt x="462" y="345"/>
                  </a:lnTo>
                  <a:lnTo>
                    <a:pt x="456" y="354"/>
                  </a:lnTo>
                  <a:lnTo>
                    <a:pt x="455" y="370"/>
                  </a:lnTo>
                  <a:lnTo>
                    <a:pt x="434" y="383"/>
                  </a:lnTo>
                  <a:lnTo>
                    <a:pt x="425" y="388"/>
                  </a:lnTo>
                  <a:lnTo>
                    <a:pt x="407" y="387"/>
                  </a:lnTo>
                  <a:lnTo>
                    <a:pt x="384" y="390"/>
                  </a:lnTo>
                  <a:lnTo>
                    <a:pt x="361" y="405"/>
                  </a:lnTo>
                  <a:lnTo>
                    <a:pt x="360" y="416"/>
                  </a:lnTo>
                  <a:lnTo>
                    <a:pt x="352" y="423"/>
                  </a:lnTo>
                  <a:lnTo>
                    <a:pt x="328" y="432"/>
                  </a:lnTo>
                  <a:lnTo>
                    <a:pt x="303" y="441"/>
                  </a:lnTo>
                  <a:lnTo>
                    <a:pt x="295" y="452"/>
                  </a:lnTo>
                  <a:lnTo>
                    <a:pt x="292" y="467"/>
                  </a:lnTo>
                  <a:lnTo>
                    <a:pt x="276" y="465"/>
                  </a:lnTo>
                  <a:lnTo>
                    <a:pt x="257" y="457"/>
                  </a:lnTo>
                  <a:lnTo>
                    <a:pt x="237" y="455"/>
                  </a:lnTo>
                  <a:lnTo>
                    <a:pt x="221" y="467"/>
                  </a:lnTo>
                  <a:lnTo>
                    <a:pt x="204" y="465"/>
                  </a:lnTo>
                  <a:lnTo>
                    <a:pt x="191" y="467"/>
                  </a:lnTo>
                  <a:lnTo>
                    <a:pt x="172" y="480"/>
                  </a:lnTo>
                  <a:lnTo>
                    <a:pt x="155" y="498"/>
                  </a:lnTo>
                  <a:lnTo>
                    <a:pt x="134" y="511"/>
                  </a:lnTo>
                  <a:lnTo>
                    <a:pt x="134" y="535"/>
                  </a:lnTo>
                  <a:lnTo>
                    <a:pt x="117" y="541"/>
                  </a:lnTo>
                  <a:lnTo>
                    <a:pt x="117" y="552"/>
                  </a:lnTo>
                  <a:lnTo>
                    <a:pt x="104" y="550"/>
                  </a:lnTo>
                  <a:lnTo>
                    <a:pt x="100" y="535"/>
                  </a:lnTo>
                  <a:lnTo>
                    <a:pt x="96" y="524"/>
                  </a:lnTo>
                  <a:lnTo>
                    <a:pt x="84" y="523"/>
                  </a:lnTo>
                  <a:lnTo>
                    <a:pt x="70" y="521"/>
                  </a:lnTo>
                  <a:lnTo>
                    <a:pt x="58" y="506"/>
                  </a:lnTo>
                  <a:lnTo>
                    <a:pt x="39" y="509"/>
                  </a:lnTo>
                  <a:lnTo>
                    <a:pt x="28" y="496"/>
                  </a:lnTo>
                  <a:lnTo>
                    <a:pt x="6" y="462"/>
                  </a:lnTo>
                  <a:lnTo>
                    <a:pt x="0" y="448"/>
                  </a:lnTo>
                  <a:lnTo>
                    <a:pt x="1" y="436"/>
                  </a:lnTo>
                  <a:lnTo>
                    <a:pt x="17" y="422"/>
                  </a:lnTo>
                  <a:lnTo>
                    <a:pt x="39" y="414"/>
                  </a:lnTo>
                  <a:lnTo>
                    <a:pt x="53" y="398"/>
                  </a:lnTo>
                  <a:lnTo>
                    <a:pt x="74" y="392"/>
                  </a:lnTo>
                  <a:lnTo>
                    <a:pt x="92" y="383"/>
                  </a:lnTo>
                  <a:lnTo>
                    <a:pt x="79" y="324"/>
                  </a:lnTo>
                  <a:lnTo>
                    <a:pt x="95" y="328"/>
                  </a:lnTo>
                  <a:lnTo>
                    <a:pt x="104" y="320"/>
                  </a:lnTo>
                  <a:lnTo>
                    <a:pt x="127" y="306"/>
                  </a:lnTo>
                  <a:lnTo>
                    <a:pt x="134" y="292"/>
                  </a:lnTo>
                  <a:lnTo>
                    <a:pt x="162" y="293"/>
                  </a:lnTo>
                  <a:lnTo>
                    <a:pt x="174" y="296"/>
                  </a:lnTo>
                  <a:lnTo>
                    <a:pt x="187" y="283"/>
                  </a:lnTo>
                  <a:lnTo>
                    <a:pt x="134" y="238"/>
                  </a:lnTo>
                  <a:lnTo>
                    <a:pt x="104" y="224"/>
                  </a:lnTo>
                  <a:lnTo>
                    <a:pt x="90" y="221"/>
                  </a:lnTo>
                  <a:lnTo>
                    <a:pt x="71" y="223"/>
                  </a:lnTo>
                  <a:lnTo>
                    <a:pt x="49" y="186"/>
                  </a:lnTo>
                  <a:lnTo>
                    <a:pt x="41" y="149"/>
                  </a:lnTo>
                  <a:lnTo>
                    <a:pt x="51" y="128"/>
                  </a:lnTo>
                  <a:lnTo>
                    <a:pt x="51" y="108"/>
                  </a:lnTo>
                  <a:lnTo>
                    <a:pt x="45" y="86"/>
                  </a:lnTo>
                  <a:lnTo>
                    <a:pt x="47" y="63"/>
                  </a:lnTo>
                  <a:lnTo>
                    <a:pt x="109" y="37"/>
                  </a:lnTo>
                  <a:lnTo>
                    <a:pt x="143" y="26"/>
                  </a:lnTo>
                  <a:lnTo>
                    <a:pt x="161" y="22"/>
                  </a:lnTo>
                  <a:lnTo>
                    <a:pt x="182" y="22"/>
                  </a:lnTo>
                  <a:lnTo>
                    <a:pt x="190" y="13"/>
                  </a:lnTo>
                  <a:lnTo>
                    <a:pt x="207" y="12"/>
                  </a:lnTo>
                  <a:lnTo>
                    <a:pt x="221" y="11"/>
                  </a:lnTo>
                  <a:lnTo>
                    <a:pt x="234" y="0"/>
                  </a:lnTo>
                  <a:lnTo>
                    <a:pt x="260" y="11"/>
                  </a:lnTo>
                  <a:lnTo>
                    <a:pt x="277" y="11"/>
                  </a:lnTo>
                  <a:lnTo>
                    <a:pt x="292" y="11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4520" y="3879720"/>
              <a:ext cx="1058760" cy="1316160"/>
            </a:xfrm>
            <a:custGeom>
              <a:avLst/>
              <a:gdLst/>
              <a:ahLst/>
              <a:rect l="l" t="t" r="r" b="b"/>
              <a:pathLst>
                <a:path w="667" h="829">
                  <a:moveTo>
                    <a:pt x="588" y="91"/>
                  </a:moveTo>
                  <a:lnTo>
                    <a:pt x="588" y="104"/>
                  </a:lnTo>
                  <a:lnTo>
                    <a:pt x="591" y="114"/>
                  </a:lnTo>
                  <a:lnTo>
                    <a:pt x="607" y="132"/>
                  </a:lnTo>
                  <a:lnTo>
                    <a:pt x="654" y="160"/>
                  </a:lnTo>
                  <a:lnTo>
                    <a:pt x="662" y="160"/>
                  </a:lnTo>
                  <a:lnTo>
                    <a:pt x="654" y="177"/>
                  </a:lnTo>
                  <a:lnTo>
                    <a:pt x="651" y="195"/>
                  </a:lnTo>
                  <a:lnTo>
                    <a:pt x="667" y="227"/>
                  </a:lnTo>
                  <a:lnTo>
                    <a:pt x="646" y="230"/>
                  </a:lnTo>
                  <a:lnTo>
                    <a:pt x="624" y="242"/>
                  </a:lnTo>
                  <a:lnTo>
                    <a:pt x="611" y="258"/>
                  </a:lnTo>
                  <a:lnTo>
                    <a:pt x="608" y="270"/>
                  </a:lnTo>
                  <a:lnTo>
                    <a:pt x="614" y="283"/>
                  </a:lnTo>
                  <a:lnTo>
                    <a:pt x="614" y="301"/>
                  </a:lnTo>
                  <a:lnTo>
                    <a:pt x="599" y="304"/>
                  </a:lnTo>
                  <a:lnTo>
                    <a:pt x="591" y="314"/>
                  </a:lnTo>
                  <a:lnTo>
                    <a:pt x="582" y="342"/>
                  </a:lnTo>
                  <a:lnTo>
                    <a:pt x="575" y="369"/>
                  </a:lnTo>
                  <a:lnTo>
                    <a:pt x="588" y="373"/>
                  </a:lnTo>
                  <a:lnTo>
                    <a:pt x="599" y="365"/>
                  </a:lnTo>
                  <a:lnTo>
                    <a:pt x="608" y="359"/>
                  </a:lnTo>
                  <a:lnTo>
                    <a:pt x="628" y="364"/>
                  </a:lnTo>
                  <a:lnTo>
                    <a:pt x="621" y="409"/>
                  </a:lnTo>
                  <a:lnTo>
                    <a:pt x="621" y="422"/>
                  </a:lnTo>
                  <a:lnTo>
                    <a:pt x="617" y="435"/>
                  </a:lnTo>
                  <a:lnTo>
                    <a:pt x="599" y="456"/>
                  </a:lnTo>
                  <a:lnTo>
                    <a:pt x="573" y="452"/>
                  </a:lnTo>
                  <a:lnTo>
                    <a:pt x="562" y="452"/>
                  </a:lnTo>
                  <a:lnTo>
                    <a:pt x="549" y="461"/>
                  </a:lnTo>
                  <a:lnTo>
                    <a:pt x="543" y="482"/>
                  </a:lnTo>
                  <a:lnTo>
                    <a:pt x="542" y="506"/>
                  </a:lnTo>
                  <a:lnTo>
                    <a:pt x="525" y="509"/>
                  </a:lnTo>
                  <a:lnTo>
                    <a:pt x="515" y="519"/>
                  </a:lnTo>
                  <a:lnTo>
                    <a:pt x="504" y="525"/>
                  </a:lnTo>
                  <a:lnTo>
                    <a:pt x="487" y="522"/>
                  </a:lnTo>
                  <a:lnTo>
                    <a:pt x="480" y="537"/>
                  </a:lnTo>
                  <a:lnTo>
                    <a:pt x="482" y="556"/>
                  </a:lnTo>
                  <a:lnTo>
                    <a:pt x="478" y="571"/>
                  </a:lnTo>
                  <a:lnTo>
                    <a:pt x="461" y="574"/>
                  </a:lnTo>
                  <a:lnTo>
                    <a:pt x="439" y="572"/>
                  </a:lnTo>
                  <a:lnTo>
                    <a:pt x="421" y="563"/>
                  </a:lnTo>
                  <a:lnTo>
                    <a:pt x="399" y="559"/>
                  </a:lnTo>
                  <a:lnTo>
                    <a:pt x="381" y="569"/>
                  </a:lnTo>
                  <a:lnTo>
                    <a:pt x="355" y="565"/>
                  </a:lnTo>
                  <a:lnTo>
                    <a:pt x="333" y="580"/>
                  </a:lnTo>
                  <a:lnTo>
                    <a:pt x="343" y="638"/>
                  </a:lnTo>
                  <a:lnTo>
                    <a:pt x="350" y="665"/>
                  </a:lnTo>
                  <a:lnTo>
                    <a:pt x="374" y="682"/>
                  </a:lnTo>
                  <a:lnTo>
                    <a:pt x="376" y="702"/>
                  </a:lnTo>
                  <a:lnTo>
                    <a:pt x="370" y="720"/>
                  </a:lnTo>
                  <a:lnTo>
                    <a:pt x="360" y="762"/>
                  </a:lnTo>
                  <a:lnTo>
                    <a:pt x="368" y="789"/>
                  </a:lnTo>
                  <a:lnTo>
                    <a:pt x="339" y="794"/>
                  </a:lnTo>
                  <a:lnTo>
                    <a:pt x="318" y="807"/>
                  </a:lnTo>
                  <a:lnTo>
                    <a:pt x="317" y="823"/>
                  </a:lnTo>
                  <a:lnTo>
                    <a:pt x="299" y="829"/>
                  </a:lnTo>
                  <a:lnTo>
                    <a:pt x="279" y="824"/>
                  </a:lnTo>
                  <a:lnTo>
                    <a:pt x="290" y="802"/>
                  </a:lnTo>
                  <a:lnTo>
                    <a:pt x="273" y="792"/>
                  </a:lnTo>
                  <a:lnTo>
                    <a:pt x="251" y="779"/>
                  </a:lnTo>
                  <a:lnTo>
                    <a:pt x="244" y="771"/>
                  </a:lnTo>
                  <a:lnTo>
                    <a:pt x="244" y="757"/>
                  </a:lnTo>
                  <a:lnTo>
                    <a:pt x="234" y="751"/>
                  </a:lnTo>
                  <a:lnTo>
                    <a:pt x="223" y="772"/>
                  </a:lnTo>
                  <a:lnTo>
                    <a:pt x="217" y="780"/>
                  </a:lnTo>
                  <a:lnTo>
                    <a:pt x="200" y="779"/>
                  </a:lnTo>
                  <a:lnTo>
                    <a:pt x="173" y="757"/>
                  </a:lnTo>
                  <a:lnTo>
                    <a:pt x="158" y="744"/>
                  </a:lnTo>
                  <a:lnTo>
                    <a:pt x="152" y="733"/>
                  </a:lnTo>
                  <a:lnTo>
                    <a:pt x="154" y="716"/>
                  </a:lnTo>
                  <a:lnTo>
                    <a:pt x="187" y="701"/>
                  </a:lnTo>
                  <a:lnTo>
                    <a:pt x="157" y="664"/>
                  </a:lnTo>
                  <a:lnTo>
                    <a:pt x="147" y="643"/>
                  </a:lnTo>
                  <a:lnTo>
                    <a:pt x="154" y="620"/>
                  </a:lnTo>
                  <a:lnTo>
                    <a:pt x="126" y="585"/>
                  </a:lnTo>
                  <a:lnTo>
                    <a:pt x="72" y="607"/>
                  </a:lnTo>
                  <a:lnTo>
                    <a:pt x="43" y="616"/>
                  </a:lnTo>
                  <a:lnTo>
                    <a:pt x="13" y="610"/>
                  </a:lnTo>
                  <a:lnTo>
                    <a:pt x="0" y="593"/>
                  </a:lnTo>
                  <a:lnTo>
                    <a:pt x="0" y="574"/>
                  </a:lnTo>
                  <a:lnTo>
                    <a:pt x="24" y="567"/>
                  </a:lnTo>
                  <a:lnTo>
                    <a:pt x="33" y="547"/>
                  </a:lnTo>
                  <a:lnTo>
                    <a:pt x="43" y="528"/>
                  </a:lnTo>
                  <a:lnTo>
                    <a:pt x="67" y="512"/>
                  </a:lnTo>
                  <a:lnTo>
                    <a:pt x="87" y="500"/>
                  </a:lnTo>
                  <a:lnTo>
                    <a:pt x="63" y="455"/>
                  </a:lnTo>
                  <a:lnTo>
                    <a:pt x="59" y="429"/>
                  </a:lnTo>
                  <a:lnTo>
                    <a:pt x="67" y="404"/>
                  </a:lnTo>
                  <a:lnTo>
                    <a:pt x="87" y="409"/>
                  </a:lnTo>
                  <a:lnTo>
                    <a:pt x="98" y="396"/>
                  </a:lnTo>
                  <a:lnTo>
                    <a:pt x="97" y="382"/>
                  </a:lnTo>
                  <a:lnTo>
                    <a:pt x="87" y="347"/>
                  </a:lnTo>
                  <a:lnTo>
                    <a:pt x="139" y="278"/>
                  </a:lnTo>
                  <a:lnTo>
                    <a:pt x="166" y="286"/>
                  </a:lnTo>
                  <a:lnTo>
                    <a:pt x="179" y="274"/>
                  </a:lnTo>
                  <a:lnTo>
                    <a:pt x="192" y="255"/>
                  </a:lnTo>
                  <a:lnTo>
                    <a:pt x="213" y="244"/>
                  </a:lnTo>
                  <a:lnTo>
                    <a:pt x="213" y="222"/>
                  </a:lnTo>
                  <a:lnTo>
                    <a:pt x="221" y="200"/>
                  </a:lnTo>
                  <a:lnTo>
                    <a:pt x="244" y="205"/>
                  </a:lnTo>
                  <a:lnTo>
                    <a:pt x="258" y="183"/>
                  </a:lnTo>
                  <a:lnTo>
                    <a:pt x="266" y="173"/>
                  </a:lnTo>
                  <a:lnTo>
                    <a:pt x="266" y="160"/>
                  </a:lnTo>
                  <a:lnTo>
                    <a:pt x="264" y="147"/>
                  </a:lnTo>
                  <a:lnTo>
                    <a:pt x="252" y="144"/>
                  </a:lnTo>
                  <a:lnTo>
                    <a:pt x="226" y="136"/>
                  </a:lnTo>
                  <a:lnTo>
                    <a:pt x="243" y="115"/>
                  </a:lnTo>
                  <a:lnTo>
                    <a:pt x="265" y="106"/>
                  </a:lnTo>
                  <a:lnTo>
                    <a:pt x="318" y="96"/>
                  </a:lnTo>
                  <a:lnTo>
                    <a:pt x="317" y="78"/>
                  </a:lnTo>
                  <a:lnTo>
                    <a:pt x="307" y="62"/>
                  </a:lnTo>
                  <a:lnTo>
                    <a:pt x="322" y="54"/>
                  </a:lnTo>
                  <a:lnTo>
                    <a:pt x="340" y="50"/>
                  </a:lnTo>
                  <a:lnTo>
                    <a:pt x="360" y="74"/>
                  </a:lnTo>
                  <a:lnTo>
                    <a:pt x="381" y="74"/>
                  </a:lnTo>
                  <a:lnTo>
                    <a:pt x="412" y="54"/>
                  </a:lnTo>
                  <a:lnTo>
                    <a:pt x="422" y="41"/>
                  </a:lnTo>
                  <a:lnTo>
                    <a:pt x="425" y="27"/>
                  </a:lnTo>
                  <a:lnTo>
                    <a:pt x="425" y="13"/>
                  </a:lnTo>
                  <a:lnTo>
                    <a:pt x="439" y="0"/>
                  </a:lnTo>
                  <a:lnTo>
                    <a:pt x="467" y="1"/>
                  </a:lnTo>
                  <a:lnTo>
                    <a:pt x="486" y="5"/>
                  </a:lnTo>
                  <a:lnTo>
                    <a:pt x="513" y="22"/>
                  </a:lnTo>
                  <a:lnTo>
                    <a:pt x="500" y="37"/>
                  </a:lnTo>
                  <a:lnTo>
                    <a:pt x="503" y="57"/>
                  </a:lnTo>
                  <a:lnTo>
                    <a:pt x="508" y="74"/>
                  </a:lnTo>
                  <a:lnTo>
                    <a:pt x="507" y="91"/>
                  </a:lnTo>
                  <a:lnTo>
                    <a:pt x="490" y="95"/>
                  </a:lnTo>
                  <a:lnTo>
                    <a:pt x="487" y="113"/>
                  </a:lnTo>
                  <a:lnTo>
                    <a:pt x="512" y="123"/>
                  </a:lnTo>
                  <a:lnTo>
                    <a:pt x="525" y="124"/>
                  </a:lnTo>
                  <a:lnTo>
                    <a:pt x="542" y="124"/>
                  </a:lnTo>
                  <a:lnTo>
                    <a:pt x="542" y="108"/>
                  </a:lnTo>
                  <a:lnTo>
                    <a:pt x="545" y="92"/>
                  </a:lnTo>
                  <a:lnTo>
                    <a:pt x="558" y="89"/>
                  </a:lnTo>
                  <a:lnTo>
                    <a:pt x="588" y="91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7960" y="4302000"/>
              <a:ext cx="1042920" cy="1141560"/>
            </a:xfrm>
            <a:custGeom>
              <a:avLst/>
              <a:gdLst/>
              <a:ahLst/>
              <a:rect l="l" t="t" r="r" b="b"/>
              <a:pathLst>
                <a:path w="657" h="719">
                  <a:moveTo>
                    <a:pt x="552" y="85"/>
                  </a:moveTo>
                  <a:lnTo>
                    <a:pt x="562" y="118"/>
                  </a:lnTo>
                  <a:lnTo>
                    <a:pt x="565" y="132"/>
                  </a:lnTo>
                  <a:lnTo>
                    <a:pt x="552" y="145"/>
                  </a:lnTo>
                  <a:lnTo>
                    <a:pt x="532" y="140"/>
                  </a:lnTo>
                  <a:lnTo>
                    <a:pt x="524" y="163"/>
                  </a:lnTo>
                  <a:lnTo>
                    <a:pt x="528" y="191"/>
                  </a:lnTo>
                  <a:lnTo>
                    <a:pt x="552" y="238"/>
                  </a:lnTo>
                  <a:lnTo>
                    <a:pt x="532" y="248"/>
                  </a:lnTo>
                  <a:lnTo>
                    <a:pt x="511" y="264"/>
                  </a:lnTo>
                  <a:lnTo>
                    <a:pt x="501" y="284"/>
                  </a:lnTo>
                  <a:lnTo>
                    <a:pt x="490" y="303"/>
                  </a:lnTo>
                  <a:lnTo>
                    <a:pt x="464" y="310"/>
                  </a:lnTo>
                  <a:lnTo>
                    <a:pt x="464" y="330"/>
                  </a:lnTo>
                  <a:lnTo>
                    <a:pt x="477" y="346"/>
                  </a:lnTo>
                  <a:lnTo>
                    <a:pt x="507" y="352"/>
                  </a:lnTo>
                  <a:lnTo>
                    <a:pt x="536" y="346"/>
                  </a:lnTo>
                  <a:lnTo>
                    <a:pt x="591" y="321"/>
                  </a:lnTo>
                  <a:lnTo>
                    <a:pt x="619" y="356"/>
                  </a:lnTo>
                  <a:lnTo>
                    <a:pt x="611" y="379"/>
                  </a:lnTo>
                  <a:lnTo>
                    <a:pt x="621" y="400"/>
                  </a:lnTo>
                  <a:lnTo>
                    <a:pt x="652" y="435"/>
                  </a:lnTo>
                  <a:lnTo>
                    <a:pt x="619" y="452"/>
                  </a:lnTo>
                  <a:lnTo>
                    <a:pt x="615" y="468"/>
                  </a:lnTo>
                  <a:lnTo>
                    <a:pt x="624" y="481"/>
                  </a:lnTo>
                  <a:lnTo>
                    <a:pt x="637" y="493"/>
                  </a:lnTo>
                  <a:lnTo>
                    <a:pt x="632" y="512"/>
                  </a:lnTo>
                  <a:lnTo>
                    <a:pt x="637" y="534"/>
                  </a:lnTo>
                  <a:lnTo>
                    <a:pt x="657" y="546"/>
                  </a:lnTo>
                  <a:lnTo>
                    <a:pt x="657" y="563"/>
                  </a:lnTo>
                  <a:lnTo>
                    <a:pt x="650" y="585"/>
                  </a:lnTo>
                  <a:lnTo>
                    <a:pt x="652" y="606"/>
                  </a:lnTo>
                  <a:lnTo>
                    <a:pt x="626" y="633"/>
                  </a:lnTo>
                  <a:lnTo>
                    <a:pt x="624" y="651"/>
                  </a:lnTo>
                  <a:lnTo>
                    <a:pt x="624" y="669"/>
                  </a:lnTo>
                  <a:lnTo>
                    <a:pt x="605" y="697"/>
                  </a:lnTo>
                  <a:lnTo>
                    <a:pt x="585" y="719"/>
                  </a:lnTo>
                  <a:lnTo>
                    <a:pt x="503" y="702"/>
                  </a:lnTo>
                  <a:lnTo>
                    <a:pt x="463" y="693"/>
                  </a:lnTo>
                  <a:lnTo>
                    <a:pt x="444" y="693"/>
                  </a:lnTo>
                  <a:lnTo>
                    <a:pt x="424" y="697"/>
                  </a:lnTo>
                  <a:lnTo>
                    <a:pt x="399" y="688"/>
                  </a:lnTo>
                  <a:lnTo>
                    <a:pt x="384" y="668"/>
                  </a:lnTo>
                  <a:lnTo>
                    <a:pt x="368" y="652"/>
                  </a:lnTo>
                  <a:lnTo>
                    <a:pt x="355" y="649"/>
                  </a:lnTo>
                  <a:lnTo>
                    <a:pt x="337" y="646"/>
                  </a:lnTo>
                  <a:lnTo>
                    <a:pt x="321" y="645"/>
                  </a:lnTo>
                  <a:lnTo>
                    <a:pt x="310" y="630"/>
                  </a:lnTo>
                  <a:lnTo>
                    <a:pt x="312" y="617"/>
                  </a:lnTo>
                  <a:lnTo>
                    <a:pt x="321" y="607"/>
                  </a:lnTo>
                  <a:lnTo>
                    <a:pt x="333" y="597"/>
                  </a:lnTo>
                  <a:lnTo>
                    <a:pt x="337" y="585"/>
                  </a:lnTo>
                  <a:lnTo>
                    <a:pt x="315" y="577"/>
                  </a:lnTo>
                  <a:lnTo>
                    <a:pt x="304" y="564"/>
                  </a:lnTo>
                  <a:lnTo>
                    <a:pt x="303" y="550"/>
                  </a:lnTo>
                  <a:lnTo>
                    <a:pt x="307" y="533"/>
                  </a:lnTo>
                  <a:lnTo>
                    <a:pt x="308" y="517"/>
                  </a:lnTo>
                  <a:lnTo>
                    <a:pt x="307" y="503"/>
                  </a:lnTo>
                  <a:lnTo>
                    <a:pt x="294" y="494"/>
                  </a:lnTo>
                  <a:lnTo>
                    <a:pt x="285" y="493"/>
                  </a:lnTo>
                  <a:lnTo>
                    <a:pt x="269" y="493"/>
                  </a:lnTo>
                  <a:lnTo>
                    <a:pt x="246" y="477"/>
                  </a:lnTo>
                  <a:lnTo>
                    <a:pt x="221" y="476"/>
                  </a:lnTo>
                  <a:lnTo>
                    <a:pt x="172" y="490"/>
                  </a:lnTo>
                  <a:lnTo>
                    <a:pt x="121" y="507"/>
                  </a:lnTo>
                  <a:lnTo>
                    <a:pt x="92" y="508"/>
                  </a:lnTo>
                  <a:lnTo>
                    <a:pt x="63" y="499"/>
                  </a:lnTo>
                  <a:lnTo>
                    <a:pt x="59" y="486"/>
                  </a:lnTo>
                  <a:lnTo>
                    <a:pt x="68" y="476"/>
                  </a:lnTo>
                  <a:lnTo>
                    <a:pt x="77" y="466"/>
                  </a:lnTo>
                  <a:lnTo>
                    <a:pt x="76" y="452"/>
                  </a:lnTo>
                  <a:lnTo>
                    <a:pt x="102" y="435"/>
                  </a:lnTo>
                  <a:lnTo>
                    <a:pt x="102" y="420"/>
                  </a:lnTo>
                  <a:lnTo>
                    <a:pt x="109" y="408"/>
                  </a:lnTo>
                  <a:lnTo>
                    <a:pt x="43" y="381"/>
                  </a:lnTo>
                  <a:lnTo>
                    <a:pt x="0" y="334"/>
                  </a:lnTo>
                  <a:lnTo>
                    <a:pt x="1" y="314"/>
                  </a:lnTo>
                  <a:lnTo>
                    <a:pt x="0" y="296"/>
                  </a:lnTo>
                  <a:lnTo>
                    <a:pt x="1" y="275"/>
                  </a:lnTo>
                  <a:lnTo>
                    <a:pt x="14" y="260"/>
                  </a:lnTo>
                  <a:lnTo>
                    <a:pt x="38" y="227"/>
                  </a:lnTo>
                  <a:lnTo>
                    <a:pt x="81" y="197"/>
                  </a:lnTo>
                  <a:lnTo>
                    <a:pt x="113" y="191"/>
                  </a:lnTo>
                  <a:lnTo>
                    <a:pt x="141" y="192"/>
                  </a:lnTo>
                  <a:lnTo>
                    <a:pt x="189" y="203"/>
                  </a:lnTo>
                  <a:lnTo>
                    <a:pt x="180" y="163"/>
                  </a:lnTo>
                  <a:lnTo>
                    <a:pt x="190" y="154"/>
                  </a:lnTo>
                  <a:lnTo>
                    <a:pt x="204" y="150"/>
                  </a:lnTo>
                  <a:lnTo>
                    <a:pt x="216" y="150"/>
                  </a:lnTo>
                  <a:lnTo>
                    <a:pt x="221" y="140"/>
                  </a:lnTo>
                  <a:lnTo>
                    <a:pt x="262" y="126"/>
                  </a:lnTo>
                  <a:lnTo>
                    <a:pt x="302" y="105"/>
                  </a:lnTo>
                  <a:lnTo>
                    <a:pt x="317" y="113"/>
                  </a:lnTo>
                  <a:lnTo>
                    <a:pt x="337" y="113"/>
                  </a:lnTo>
                  <a:lnTo>
                    <a:pt x="354" y="88"/>
                  </a:lnTo>
                  <a:lnTo>
                    <a:pt x="384" y="75"/>
                  </a:lnTo>
                  <a:lnTo>
                    <a:pt x="416" y="63"/>
                  </a:lnTo>
                  <a:lnTo>
                    <a:pt x="436" y="44"/>
                  </a:lnTo>
                  <a:lnTo>
                    <a:pt x="464" y="26"/>
                  </a:lnTo>
                  <a:lnTo>
                    <a:pt x="464" y="11"/>
                  </a:lnTo>
                  <a:lnTo>
                    <a:pt x="471" y="0"/>
                  </a:lnTo>
                  <a:lnTo>
                    <a:pt x="485" y="9"/>
                  </a:lnTo>
                  <a:lnTo>
                    <a:pt x="552" y="8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7680" y="4529160"/>
              <a:ext cx="2211480" cy="1906560"/>
            </a:xfrm>
            <a:custGeom>
              <a:avLst/>
              <a:gdLst/>
              <a:ahLst/>
              <a:rect l="l" t="t" r="r" b="b"/>
              <a:pathLst>
                <a:path w="1393" h="1201">
                  <a:moveTo>
                    <a:pt x="823" y="24"/>
                  </a:moveTo>
                  <a:lnTo>
                    <a:pt x="845" y="56"/>
                  </a:lnTo>
                  <a:lnTo>
                    <a:pt x="854" y="71"/>
                  </a:lnTo>
                  <a:lnTo>
                    <a:pt x="876" y="68"/>
                  </a:lnTo>
                  <a:lnTo>
                    <a:pt x="872" y="82"/>
                  </a:lnTo>
                  <a:lnTo>
                    <a:pt x="872" y="91"/>
                  </a:lnTo>
                  <a:lnTo>
                    <a:pt x="888" y="107"/>
                  </a:lnTo>
                  <a:lnTo>
                    <a:pt x="902" y="121"/>
                  </a:lnTo>
                  <a:lnTo>
                    <a:pt x="898" y="142"/>
                  </a:lnTo>
                  <a:lnTo>
                    <a:pt x="986" y="188"/>
                  </a:lnTo>
                  <a:lnTo>
                    <a:pt x="995" y="211"/>
                  </a:lnTo>
                  <a:lnTo>
                    <a:pt x="999" y="223"/>
                  </a:lnTo>
                  <a:lnTo>
                    <a:pt x="999" y="240"/>
                  </a:lnTo>
                  <a:lnTo>
                    <a:pt x="971" y="271"/>
                  </a:lnTo>
                  <a:lnTo>
                    <a:pt x="974" y="285"/>
                  </a:lnTo>
                  <a:lnTo>
                    <a:pt x="986" y="301"/>
                  </a:lnTo>
                  <a:lnTo>
                    <a:pt x="1012" y="328"/>
                  </a:lnTo>
                  <a:lnTo>
                    <a:pt x="1031" y="359"/>
                  </a:lnTo>
                  <a:lnTo>
                    <a:pt x="1031" y="371"/>
                  </a:lnTo>
                  <a:lnTo>
                    <a:pt x="1036" y="380"/>
                  </a:lnTo>
                  <a:lnTo>
                    <a:pt x="1055" y="394"/>
                  </a:lnTo>
                  <a:lnTo>
                    <a:pt x="1077" y="405"/>
                  </a:lnTo>
                  <a:lnTo>
                    <a:pt x="1091" y="428"/>
                  </a:lnTo>
                  <a:lnTo>
                    <a:pt x="1109" y="424"/>
                  </a:lnTo>
                  <a:lnTo>
                    <a:pt x="1131" y="420"/>
                  </a:lnTo>
                  <a:lnTo>
                    <a:pt x="1165" y="457"/>
                  </a:lnTo>
                  <a:lnTo>
                    <a:pt x="1198" y="489"/>
                  </a:lnTo>
                  <a:lnTo>
                    <a:pt x="1239" y="509"/>
                  </a:lnTo>
                  <a:lnTo>
                    <a:pt x="1256" y="520"/>
                  </a:lnTo>
                  <a:lnTo>
                    <a:pt x="1259" y="541"/>
                  </a:lnTo>
                  <a:lnTo>
                    <a:pt x="1278" y="553"/>
                  </a:lnTo>
                  <a:lnTo>
                    <a:pt x="1300" y="550"/>
                  </a:lnTo>
                  <a:lnTo>
                    <a:pt x="1321" y="550"/>
                  </a:lnTo>
                  <a:lnTo>
                    <a:pt x="1332" y="569"/>
                  </a:lnTo>
                  <a:lnTo>
                    <a:pt x="1363" y="583"/>
                  </a:lnTo>
                  <a:lnTo>
                    <a:pt x="1376" y="588"/>
                  </a:lnTo>
                  <a:lnTo>
                    <a:pt x="1377" y="604"/>
                  </a:lnTo>
                  <a:lnTo>
                    <a:pt x="1393" y="648"/>
                  </a:lnTo>
                  <a:lnTo>
                    <a:pt x="1391" y="673"/>
                  </a:lnTo>
                  <a:lnTo>
                    <a:pt x="1386" y="696"/>
                  </a:lnTo>
                  <a:lnTo>
                    <a:pt x="1369" y="703"/>
                  </a:lnTo>
                  <a:lnTo>
                    <a:pt x="1364" y="716"/>
                  </a:lnTo>
                  <a:lnTo>
                    <a:pt x="1349" y="714"/>
                  </a:lnTo>
                  <a:lnTo>
                    <a:pt x="1338" y="701"/>
                  </a:lnTo>
                  <a:lnTo>
                    <a:pt x="1319" y="705"/>
                  </a:lnTo>
                  <a:lnTo>
                    <a:pt x="1306" y="696"/>
                  </a:lnTo>
                  <a:lnTo>
                    <a:pt x="1285" y="751"/>
                  </a:lnTo>
                  <a:lnTo>
                    <a:pt x="1276" y="775"/>
                  </a:lnTo>
                  <a:lnTo>
                    <a:pt x="1254" y="796"/>
                  </a:lnTo>
                  <a:lnTo>
                    <a:pt x="1204" y="808"/>
                  </a:lnTo>
                  <a:lnTo>
                    <a:pt x="1179" y="814"/>
                  </a:lnTo>
                  <a:lnTo>
                    <a:pt x="1165" y="829"/>
                  </a:lnTo>
                  <a:lnTo>
                    <a:pt x="1143" y="834"/>
                  </a:lnTo>
                  <a:lnTo>
                    <a:pt x="1126" y="847"/>
                  </a:lnTo>
                  <a:lnTo>
                    <a:pt x="1099" y="875"/>
                  </a:lnTo>
                  <a:lnTo>
                    <a:pt x="1122" y="911"/>
                  </a:lnTo>
                  <a:lnTo>
                    <a:pt x="1156" y="939"/>
                  </a:lnTo>
                  <a:lnTo>
                    <a:pt x="1174" y="970"/>
                  </a:lnTo>
                  <a:lnTo>
                    <a:pt x="1174" y="990"/>
                  </a:lnTo>
                  <a:lnTo>
                    <a:pt x="1165" y="1013"/>
                  </a:lnTo>
                  <a:lnTo>
                    <a:pt x="1189" y="1017"/>
                  </a:lnTo>
                  <a:lnTo>
                    <a:pt x="1204" y="1039"/>
                  </a:lnTo>
                  <a:lnTo>
                    <a:pt x="1202" y="1061"/>
                  </a:lnTo>
                  <a:lnTo>
                    <a:pt x="1196" y="1082"/>
                  </a:lnTo>
                  <a:lnTo>
                    <a:pt x="1198" y="1104"/>
                  </a:lnTo>
                  <a:lnTo>
                    <a:pt x="1172" y="1106"/>
                  </a:lnTo>
                  <a:lnTo>
                    <a:pt x="1151" y="1099"/>
                  </a:lnTo>
                  <a:lnTo>
                    <a:pt x="1109" y="1081"/>
                  </a:lnTo>
                  <a:lnTo>
                    <a:pt x="1113" y="1069"/>
                  </a:lnTo>
                  <a:lnTo>
                    <a:pt x="1125" y="1059"/>
                  </a:lnTo>
                  <a:lnTo>
                    <a:pt x="1113" y="1054"/>
                  </a:lnTo>
                  <a:lnTo>
                    <a:pt x="1108" y="1045"/>
                  </a:lnTo>
                  <a:lnTo>
                    <a:pt x="1104" y="1034"/>
                  </a:lnTo>
                  <a:lnTo>
                    <a:pt x="1091" y="1030"/>
                  </a:lnTo>
                  <a:lnTo>
                    <a:pt x="1061" y="1048"/>
                  </a:lnTo>
                  <a:lnTo>
                    <a:pt x="1044" y="1054"/>
                  </a:lnTo>
                  <a:lnTo>
                    <a:pt x="1023" y="1052"/>
                  </a:lnTo>
                  <a:lnTo>
                    <a:pt x="1010" y="1035"/>
                  </a:lnTo>
                  <a:lnTo>
                    <a:pt x="986" y="1039"/>
                  </a:lnTo>
                  <a:lnTo>
                    <a:pt x="958" y="1028"/>
                  </a:lnTo>
                  <a:lnTo>
                    <a:pt x="944" y="1025"/>
                  </a:lnTo>
                  <a:lnTo>
                    <a:pt x="945" y="1047"/>
                  </a:lnTo>
                  <a:lnTo>
                    <a:pt x="951" y="1047"/>
                  </a:lnTo>
                  <a:lnTo>
                    <a:pt x="951" y="1063"/>
                  </a:lnTo>
                  <a:lnTo>
                    <a:pt x="923" y="1063"/>
                  </a:lnTo>
                  <a:lnTo>
                    <a:pt x="895" y="1065"/>
                  </a:lnTo>
                  <a:lnTo>
                    <a:pt x="841" y="1081"/>
                  </a:lnTo>
                  <a:lnTo>
                    <a:pt x="820" y="1082"/>
                  </a:lnTo>
                  <a:lnTo>
                    <a:pt x="800" y="1080"/>
                  </a:lnTo>
                  <a:lnTo>
                    <a:pt x="781" y="1080"/>
                  </a:lnTo>
                  <a:lnTo>
                    <a:pt x="765" y="1091"/>
                  </a:lnTo>
                  <a:lnTo>
                    <a:pt x="765" y="1104"/>
                  </a:lnTo>
                  <a:lnTo>
                    <a:pt x="744" y="1100"/>
                  </a:lnTo>
                  <a:lnTo>
                    <a:pt x="729" y="1104"/>
                  </a:lnTo>
                  <a:lnTo>
                    <a:pt x="709" y="1123"/>
                  </a:lnTo>
                  <a:lnTo>
                    <a:pt x="690" y="1142"/>
                  </a:lnTo>
                  <a:lnTo>
                    <a:pt x="679" y="1149"/>
                  </a:lnTo>
                  <a:lnTo>
                    <a:pt x="660" y="1150"/>
                  </a:lnTo>
                  <a:lnTo>
                    <a:pt x="649" y="1142"/>
                  </a:lnTo>
                  <a:lnTo>
                    <a:pt x="628" y="1147"/>
                  </a:lnTo>
                  <a:lnTo>
                    <a:pt x="605" y="1154"/>
                  </a:lnTo>
                  <a:lnTo>
                    <a:pt x="581" y="1155"/>
                  </a:lnTo>
                  <a:lnTo>
                    <a:pt x="584" y="1139"/>
                  </a:lnTo>
                  <a:lnTo>
                    <a:pt x="575" y="1128"/>
                  </a:lnTo>
                  <a:lnTo>
                    <a:pt x="560" y="1117"/>
                  </a:lnTo>
                  <a:lnTo>
                    <a:pt x="556" y="1104"/>
                  </a:lnTo>
                  <a:lnTo>
                    <a:pt x="536" y="1110"/>
                  </a:lnTo>
                  <a:lnTo>
                    <a:pt x="515" y="1108"/>
                  </a:lnTo>
                  <a:lnTo>
                    <a:pt x="476" y="1098"/>
                  </a:lnTo>
                  <a:lnTo>
                    <a:pt x="429" y="1110"/>
                  </a:lnTo>
                  <a:lnTo>
                    <a:pt x="434" y="1130"/>
                  </a:lnTo>
                  <a:lnTo>
                    <a:pt x="435" y="1155"/>
                  </a:lnTo>
                  <a:lnTo>
                    <a:pt x="417" y="1167"/>
                  </a:lnTo>
                  <a:lnTo>
                    <a:pt x="415" y="1186"/>
                  </a:lnTo>
                  <a:lnTo>
                    <a:pt x="389" y="1195"/>
                  </a:lnTo>
                  <a:lnTo>
                    <a:pt x="377" y="1201"/>
                  </a:lnTo>
                  <a:lnTo>
                    <a:pt x="360" y="1199"/>
                  </a:lnTo>
                  <a:lnTo>
                    <a:pt x="360" y="1181"/>
                  </a:lnTo>
                  <a:lnTo>
                    <a:pt x="368" y="1165"/>
                  </a:lnTo>
                  <a:lnTo>
                    <a:pt x="348" y="1163"/>
                  </a:lnTo>
                  <a:lnTo>
                    <a:pt x="329" y="1165"/>
                  </a:lnTo>
                  <a:lnTo>
                    <a:pt x="330" y="1147"/>
                  </a:lnTo>
                  <a:lnTo>
                    <a:pt x="320" y="1133"/>
                  </a:lnTo>
                  <a:lnTo>
                    <a:pt x="288" y="1116"/>
                  </a:lnTo>
                  <a:lnTo>
                    <a:pt x="266" y="1107"/>
                  </a:lnTo>
                  <a:lnTo>
                    <a:pt x="242" y="1104"/>
                  </a:lnTo>
                  <a:lnTo>
                    <a:pt x="234" y="1098"/>
                  </a:lnTo>
                  <a:lnTo>
                    <a:pt x="220" y="1097"/>
                  </a:lnTo>
                  <a:lnTo>
                    <a:pt x="201" y="1097"/>
                  </a:lnTo>
                  <a:lnTo>
                    <a:pt x="186" y="1086"/>
                  </a:lnTo>
                  <a:lnTo>
                    <a:pt x="201" y="1086"/>
                  </a:lnTo>
                  <a:lnTo>
                    <a:pt x="214" y="1082"/>
                  </a:lnTo>
                  <a:lnTo>
                    <a:pt x="233" y="1067"/>
                  </a:lnTo>
                  <a:lnTo>
                    <a:pt x="253" y="1058"/>
                  </a:lnTo>
                  <a:lnTo>
                    <a:pt x="265" y="1058"/>
                  </a:lnTo>
                  <a:lnTo>
                    <a:pt x="281" y="1063"/>
                  </a:lnTo>
                  <a:lnTo>
                    <a:pt x="291" y="1054"/>
                  </a:lnTo>
                  <a:lnTo>
                    <a:pt x="304" y="1052"/>
                  </a:lnTo>
                  <a:lnTo>
                    <a:pt x="317" y="1050"/>
                  </a:lnTo>
                  <a:lnTo>
                    <a:pt x="329" y="1042"/>
                  </a:lnTo>
                  <a:lnTo>
                    <a:pt x="317" y="1022"/>
                  </a:lnTo>
                  <a:lnTo>
                    <a:pt x="316" y="1002"/>
                  </a:lnTo>
                  <a:lnTo>
                    <a:pt x="317" y="981"/>
                  </a:lnTo>
                  <a:lnTo>
                    <a:pt x="313" y="961"/>
                  </a:lnTo>
                  <a:lnTo>
                    <a:pt x="320" y="917"/>
                  </a:lnTo>
                  <a:lnTo>
                    <a:pt x="320" y="896"/>
                  </a:lnTo>
                  <a:lnTo>
                    <a:pt x="317" y="874"/>
                  </a:lnTo>
                  <a:lnTo>
                    <a:pt x="281" y="791"/>
                  </a:lnTo>
                  <a:lnTo>
                    <a:pt x="281" y="769"/>
                  </a:lnTo>
                  <a:lnTo>
                    <a:pt x="322" y="765"/>
                  </a:lnTo>
                  <a:lnTo>
                    <a:pt x="342" y="757"/>
                  </a:lnTo>
                  <a:lnTo>
                    <a:pt x="355" y="740"/>
                  </a:lnTo>
                  <a:lnTo>
                    <a:pt x="368" y="739"/>
                  </a:lnTo>
                  <a:lnTo>
                    <a:pt x="376" y="729"/>
                  </a:lnTo>
                  <a:lnTo>
                    <a:pt x="368" y="678"/>
                  </a:lnTo>
                  <a:lnTo>
                    <a:pt x="381" y="678"/>
                  </a:lnTo>
                  <a:lnTo>
                    <a:pt x="395" y="674"/>
                  </a:lnTo>
                  <a:lnTo>
                    <a:pt x="422" y="665"/>
                  </a:lnTo>
                  <a:lnTo>
                    <a:pt x="411" y="651"/>
                  </a:lnTo>
                  <a:lnTo>
                    <a:pt x="415" y="632"/>
                  </a:lnTo>
                  <a:lnTo>
                    <a:pt x="408" y="615"/>
                  </a:lnTo>
                  <a:lnTo>
                    <a:pt x="408" y="600"/>
                  </a:lnTo>
                  <a:lnTo>
                    <a:pt x="406" y="585"/>
                  </a:lnTo>
                  <a:lnTo>
                    <a:pt x="394" y="569"/>
                  </a:lnTo>
                  <a:lnTo>
                    <a:pt x="363" y="545"/>
                  </a:lnTo>
                  <a:lnTo>
                    <a:pt x="351" y="532"/>
                  </a:lnTo>
                  <a:lnTo>
                    <a:pt x="348" y="514"/>
                  </a:lnTo>
                  <a:lnTo>
                    <a:pt x="330" y="500"/>
                  </a:lnTo>
                  <a:lnTo>
                    <a:pt x="326" y="479"/>
                  </a:lnTo>
                  <a:lnTo>
                    <a:pt x="326" y="457"/>
                  </a:lnTo>
                  <a:lnTo>
                    <a:pt x="313" y="439"/>
                  </a:lnTo>
                  <a:lnTo>
                    <a:pt x="313" y="428"/>
                  </a:lnTo>
                  <a:lnTo>
                    <a:pt x="326" y="418"/>
                  </a:lnTo>
                  <a:lnTo>
                    <a:pt x="322" y="407"/>
                  </a:lnTo>
                  <a:lnTo>
                    <a:pt x="312" y="394"/>
                  </a:lnTo>
                  <a:lnTo>
                    <a:pt x="308" y="380"/>
                  </a:lnTo>
                  <a:lnTo>
                    <a:pt x="278" y="384"/>
                  </a:lnTo>
                  <a:lnTo>
                    <a:pt x="265" y="383"/>
                  </a:lnTo>
                  <a:lnTo>
                    <a:pt x="262" y="366"/>
                  </a:lnTo>
                  <a:lnTo>
                    <a:pt x="242" y="359"/>
                  </a:lnTo>
                  <a:lnTo>
                    <a:pt x="243" y="344"/>
                  </a:lnTo>
                  <a:lnTo>
                    <a:pt x="234" y="329"/>
                  </a:lnTo>
                  <a:lnTo>
                    <a:pt x="220" y="302"/>
                  </a:lnTo>
                  <a:lnTo>
                    <a:pt x="200" y="311"/>
                  </a:lnTo>
                  <a:lnTo>
                    <a:pt x="183" y="311"/>
                  </a:lnTo>
                  <a:lnTo>
                    <a:pt x="151" y="293"/>
                  </a:lnTo>
                  <a:lnTo>
                    <a:pt x="123" y="276"/>
                  </a:lnTo>
                  <a:lnTo>
                    <a:pt x="108" y="280"/>
                  </a:lnTo>
                  <a:lnTo>
                    <a:pt x="92" y="297"/>
                  </a:lnTo>
                  <a:lnTo>
                    <a:pt x="113" y="303"/>
                  </a:lnTo>
                  <a:lnTo>
                    <a:pt x="121" y="312"/>
                  </a:lnTo>
                  <a:lnTo>
                    <a:pt x="121" y="324"/>
                  </a:lnTo>
                  <a:lnTo>
                    <a:pt x="106" y="325"/>
                  </a:lnTo>
                  <a:lnTo>
                    <a:pt x="92" y="331"/>
                  </a:lnTo>
                  <a:lnTo>
                    <a:pt x="92" y="348"/>
                  </a:lnTo>
                  <a:lnTo>
                    <a:pt x="61" y="353"/>
                  </a:lnTo>
                  <a:lnTo>
                    <a:pt x="44" y="353"/>
                  </a:lnTo>
                  <a:lnTo>
                    <a:pt x="26" y="353"/>
                  </a:lnTo>
                  <a:lnTo>
                    <a:pt x="23" y="338"/>
                  </a:lnTo>
                  <a:lnTo>
                    <a:pt x="26" y="319"/>
                  </a:lnTo>
                  <a:lnTo>
                    <a:pt x="37" y="307"/>
                  </a:lnTo>
                  <a:lnTo>
                    <a:pt x="40" y="284"/>
                  </a:lnTo>
                  <a:lnTo>
                    <a:pt x="10" y="262"/>
                  </a:lnTo>
                  <a:lnTo>
                    <a:pt x="4" y="228"/>
                  </a:lnTo>
                  <a:lnTo>
                    <a:pt x="6" y="193"/>
                  </a:lnTo>
                  <a:lnTo>
                    <a:pt x="6" y="177"/>
                  </a:lnTo>
                  <a:lnTo>
                    <a:pt x="0" y="160"/>
                  </a:lnTo>
                  <a:lnTo>
                    <a:pt x="18" y="154"/>
                  </a:lnTo>
                  <a:lnTo>
                    <a:pt x="40" y="154"/>
                  </a:lnTo>
                  <a:lnTo>
                    <a:pt x="47" y="160"/>
                  </a:lnTo>
                  <a:lnTo>
                    <a:pt x="58" y="150"/>
                  </a:lnTo>
                  <a:lnTo>
                    <a:pt x="74" y="150"/>
                  </a:lnTo>
                  <a:lnTo>
                    <a:pt x="91" y="154"/>
                  </a:lnTo>
                  <a:lnTo>
                    <a:pt x="106" y="154"/>
                  </a:lnTo>
                  <a:lnTo>
                    <a:pt x="122" y="163"/>
                  </a:lnTo>
                  <a:lnTo>
                    <a:pt x="140" y="154"/>
                  </a:lnTo>
                  <a:lnTo>
                    <a:pt x="148" y="138"/>
                  </a:lnTo>
                  <a:lnTo>
                    <a:pt x="145" y="121"/>
                  </a:lnTo>
                  <a:lnTo>
                    <a:pt x="145" y="111"/>
                  </a:lnTo>
                  <a:lnTo>
                    <a:pt x="167" y="113"/>
                  </a:lnTo>
                  <a:lnTo>
                    <a:pt x="188" y="104"/>
                  </a:lnTo>
                  <a:lnTo>
                    <a:pt x="201" y="84"/>
                  </a:lnTo>
                  <a:lnTo>
                    <a:pt x="220" y="41"/>
                  </a:lnTo>
                  <a:lnTo>
                    <a:pt x="240" y="38"/>
                  </a:lnTo>
                  <a:lnTo>
                    <a:pt x="255" y="47"/>
                  </a:lnTo>
                  <a:lnTo>
                    <a:pt x="278" y="2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321" y="0"/>
                  </a:lnTo>
                  <a:lnTo>
                    <a:pt x="357" y="18"/>
                  </a:lnTo>
                  <a:lnTo>
                    <a:pt x="381" y="52"/>
                  </a:lnTo>
                  <a:lnTo>
                    <a:pt x="430" y="72"/>
                  </a:lnTo>
                  <a:lnTo>
                    <a:pt x="455" y="113"/>
                  </a:lnTo>
                  <a:lnTo>
                    <a:pt x="472" y="116"/>
                  </a:lnTo>
                  <a:lnTo>
                    <a:pt x="481" y="111"/>
                  </a:lnTo>
                  <a:lnTo>
                    <a:pt x="511" y="103"/>
                  </a:lnTo>
                  <a:lnTo>
                    <a:pt x="511" y="87"/>
                  </a:lnTo>
                  <a:lnTo>
                    <a:pt x="481" y="68"/>
                  </a:lnTo>
                  <a:lnTo>
                    <a:pt x="504" y="58"/>
                  </a:lnTo>
                  <a:lnTo>
                    <a:pt x="529" y="59"/>
                  </a:lnTo>
                  <a:lnTo>
                    <a:pt x="555" y="64"/>
                  </a:lnTo>
                  <a:lnTo>
                    <a:pt x="581" y="63"/>
                  </a:lnTo>
                  <a:lnTo>
                    <a:pt x="601" y="84"/>
                  </a:lnTo>
                  <a:lnTo>
                    <a:pt x="611" y="91"/>
                  </a:lnTo>
                  <a:lnTo>
                    <a:pt x="631" y="91"/>
                  </a:lnTo>
                  <a:lnTo>
                    <a:pt x="631" y="68"/>
                  </a:lnTo>
                  <a:lnTo>
                    <a:pt x="628" y="38"/>
                  </a:lnTo>
                  <a:lnTo>
                    <a:pt x="633" y="16"/>
                  </a:lnTo>
                  <a:lnTo>
                    <a:pt x="655" y="0"/>
                  </a:lnTo>
                  <a:lnTo>
                    <a:pt x="666" y="13"/>
                  </a:lnTo>
                  <a:lnTo>
                    <a:pt x="668" y="29"/>
                  </a:lnTo>
                  <a:lnTo>
                    <a:pt x="681" y="47"/>
                  </a:lnTo>
                  <a:lnTo>
                    <a:pt x="703" y="52"/>
                  </a:lnTo>
                  <a:lnTo>
                    <a:pt x="731" y="51"/>
                  </a:lnTo>
                  <a:lnTo>
                    <a:pt x="754" y="52"/>
                  </a:lnTo>
                  <a:lnTo>
                    <a:pt x="770" y="41"/>
                  </a:lnTo>
                  <a:lnTo>
                    <a:pt x="791" y="41"/>
                  </a:lnTo>
                  <a:lnTo>
                    <a:pt x="810" y="38"/>
                  </a:lnTo>
                  <a:lnTo>
                    <a:pt x="823" y="24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35760" y="4968720"/>
              <a:ext cx="1360440" cy="1305000"/>
            </a:xfrm>
            <a:custGeom>
              <a:avLst/>
              <a:gdLst/>
              <a:ahLst/>
              <a:rect l="l" t="t" r="r" b="b"/>
              <a:pathLst>
                <a:path w="857" h="822">
                  <a:moveTo>
                    <a:pt x="621" y="809"/>
                  </a:moveTo>
                  <a:lnTo>
                    <a:pt x="602" y="804"/>
                  </a:lnTo>
                  <a:lnTo>
                    <a:pt x="583" y="791"/>
                  </a:lnTo>
                  <a:lnTo>
                    <a:pt x="563" y="781"/>
                  </a:lnTo>
                  <a:lnTo>
                    <a:pt x="550" y="779"/>
                  </a:lnTo>
                  <a:lnTo>
                    <a:pt x="535" y="782"/>
                  </a:lnTo>
                  <a:lnTo>
                    <a:pt x="519" y="765"/>
                  </a:lnTo>
                  <a:lnTo>
                    <a:pt x="500" y="748"/>
                  </a:lnTo>
                  <a:lnTo>
                    <a:pt x="496" y="775"/>
                  </a:lnTo>
                  <a:lnTo>
                    <a:pt x="475" y="774"/>
                  </a:lnTo>
                  <a:lnTo>
                    <a:pt x="453" y="764"/>
                  </a:lnTo>
                  <a:lnTo>
                    <a:pt x="437" y="761"/>
                  </a:lnTo>
                  <a:lnTo>
                    <a:pt x="430" y="782"/>
                  </a:lnTo>
                  <a:lnTo>
                    <a:pt x="417" y="787"/>
                  </a:lnTo>
                  <a:lnTo>
                    <a:pt x="401" y="786"/>
                  </a:lnTo>
                  <a:lnTo>
                    <a:pt x="388" y="765"/>
                  </a:lnTo>
                  <a:lnTo>
                    <a:pt x="372" y="771"/>
                  </a:lnTo>
                  <a:lnTo>
                    <a:pt x="354" y="770"/>
                  </a:lnTo>
                  <a:lnTo>
                    <a:pt x="362" y="753"/>
                  </a:lnTo>
                  <a:lnTo>
                    <a:pt x="323" y="731"/>
                  </a:lnTo>
                  <a:lnTo>
                    <a:pt x="290" y="748"/>
                  </a:lnTo>
                  <a:lnTo>
                    <a:pt x="268" y="775"/>
                  </a:lnTo>
                  <a:lnTo>
                    <a:pt x="286" y="790"/>
                  </a:lnTo>
                  <a:lnTo>
                    <a:pt x="296" y="796"/>
                  </a:lnTo>
                  <a:lnTo>
                    <a:pt x="294" y="809"/>
                  </a:lnTo>
                  <a:lnTo>
                    <a:pt x="262" y="817"/>
                  </a:lnTo>
                  <a:lnTo>
                    <a:pt x="244" y="816"/>
                  </a:lnTo>
                  <a:lnTo>
                    <a:pt x="227" y="809"/>
                  </a:lnTo>
                  <a:lnTo>
                    <a:pt x="214" y="804"/>
                  </a:lnTo>
                  <a:lnTo>
                    <a:pt x="194" y="804"/>
                  </a:lnTo>
                  <a:lnTo>
                    <a:pt x="155" y="818"/>
                  </a:lnTo>
                  <a:lnTo>
                    <a:pt x="113" y="821"/>
                  </a:lnTo>
                  <a:lnTo>
                    <a:pt x="98" y="813"/>
                  </a:lnTo>
                  <a:lnTo>
                    <a:pt x="80" y="816"/>
                  </a:lnTo>
                  <a:lnTo>
                    <a:pt x="59" y="822"/>
                  </a:lnTo>
                  <a:lnTo>
                    <a:pt x="33" y="821"/>
                  </a:lnTo>
                  <a:lnTo>
                    <a:pt x="12" y="795"/>
                  </a:lnTo>
                  <a:lnTo>
                    <a:pt x="4" y="781"/>
                  </a:lnTo>
                  <a:lnTo>
                    <a:pt x="0" y="765"/>
                  </a:lnTo>
                  <a:lnTo>
                    <a:pt x="15" y="753"/>
                  </a:lnTo>
                  <a:lnTo>
                    <a:pt x="9" y="739"/>
                  </a:lnTo>
                  <a:lnTo>
                    <a:pt x="7" y="726"/>
                  </a:lnTo>
                  <a:lnTo>
                    <a:pt x="18" y="713"/>
                  </a:lnTo>
                  <a:lnTo>
                    <a:pt x="15" y="697"/>
                  </a:lnTo>
                  <a:lnTo>
                    <a:pt x="24" y="693"/>
                  </a:lnTo>
                  <a:lnTo>
                    <a:pt x="26" y="684"/>
                  </a:lnTo>
                  <a:lnTo>
                    <a:pt x="33" y="666"/>
                  </a:lnTo>
                  <a:lnTo>
                    <a:pt x="21" y="651"/>
                  </a:lnTo>
                  <a:lnTo>
                    <a:pt x="22" y="632"/>
                  </a:lnTo>
                  <a:lnTo>
                    <a:pt x="33" y="588"/>
                  </a:lnTo>
                  <a:lnTo>
                    <a:pt x="55" y="569"/>
                  </a:lnTo>
                  <a:lnTo>
                    <a:pt x="60" y="557"/>
                  </a:lnTo>
                  <a:lnTo>
                    <a:pt x="60" y="544"/>
                  </a:lnTo>
                  <a:lnTo>
                    <a:pt x="81" y="532"/>
                  </a:lnTo>
                  <a:lnTo>
                    <a:pt x="72" y="519"/>
                  </a:lnTo>
                  <a:lnTo>
                    <a:pt x="76" y="506"/>
                  </a:lnTo>
                  <a:lnTo>
                    <a:pt x="81" y="492"/>
                  </a:lnTo>
                  <a:lnTo>
                    <a:pt x="81" y="476"/>
                  </a:lnTo>
                  <a:lnTo>
                    <a:pt x="107" y="458"/>
                  </a:lnTo>
                  <a:lnTo>
                    <a:pt x="98" y="436"/>
                  </a:lnTo>
                  <a:lnTo>
                    <a:pt x="112" y="418"/>
                  </a:lnTo>
                  <a:lnTo>
                    <a:pt x="147" y="385"/>
                  </a:lnTo>
                  <a:lnTo>
                    <a:pt x="169" y="372"/>
                  </a:lnTo>
                  <a:lnTo>
                    <a:pt x="189" y="349"/>
                  </a:lnTo>
                  <a:lnTo>
                    <a:pt x="220" y="297"/>
                  </a:lnTo>
                  <a:lnTo>
                    <a:pt x="249" y="254"/>
                  </a:lnTo>
                  <a:lnTo>
                    <a:pt x="263" y="228"/>
                  </a:lnTo>
                  <a:lnTo>
                    <a:pt x="266" y="215"/>
                  </a:lnTo>
                  <a:lnTo>
                    <a:pt x="260" y="197"/>
                  </a:lnTo>
                  <a:lnTo>
                    <a:pt x="280" y="188"/>
                  </a:lnTo>
                  <a:lnTo>
                    <a:pt x="286" y="172"/>
                  </a:lnTo>
                  <a:lnTo>
                    <a:pt x="286" y="152"/>
                  </a:lnTo>
                  <a:lnTo>
                    <a:pt x="294" y="134"/>
                  </a:lnTo>
                  <a:lnTo>
                    <a:pt x="279" y="125"/>
                  </a:lnTo>
                  <a:lnTo>
                    <a:pt x="271" y="111"/>
                  </a:lnTo>
                  <a:lnTo>
                    <a:pt x="271" y="90"/>
                  </a:lnTo>
                  <a:lnTo>
                    <a:pt x="273" y="71"/>
                  </a:lnTo>
                  <a:lnTo>
                    <a:pt x="298" y="82"/>
                  </a:lnTo>
                  <a:lnTo>
                    <a:pt x="311" y="87"/>
                  </a:lnTo>
                  <a:lnTo>
                    <a:pt x="327" y="82"/>
                  </a:lnTo>
                  <a:lnTo>
                    <a:pt x="327" y="65"/>
                  </a:lnTo>
                  <a:lnTo>
                    <a:pt x="349" y="68"/>
                  </a:lnTo>
                  <a:lnTo>
                    <a:pt x="362" y="82"/>
                  </a:lnTo>
                  <a:lnTo>
                    <a:pt x="372" y="98"/>
                  </a:lnTo>
                  <a:lnTo>
                    <a:pt x="394" y="104"/>
                  </a:lnTo>
                  <a:lnTo>
                    <a:pt x="392" y="121"/>
                  </a:lnTo>
                  <a:lnTo>
                    <a:pt x="381" y="134"/>
                  </a:lnTo>
                  <a:lnTo>
                    <a:pt x="388" y="141"/>
                  </a:lnTo>
                  <a:lnTo>
                    <a:pt x="401" y="143"/>
                  </a:lnTo>
                  <a:lnTo>
                    <a:pt x="417" y="130"/>
                  </a:lnTo>
                  <a:lnTo>
                    <a:pt x="420" y="111"/>
                  </a:lnTo>
                  <a:lnTo>
                    <a:pt x="457" y="102"/>
                  </a:lnTo>
                  <a:lnTo>
                    <a:pt x="467" y="97"/>
                  </a:lnTo>
                  <a:lnTo>
                    <a:pt x="461" y="77"/>
                  </a:lnTo>
                  <a:lnTo>
                    <a:pt x="496" y="77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41" y="50"/>
                  </a:lnTo>
                  <a:lnTo>
                    <a:pt x="554" y="47"/>
                  </a:lnTo>
                  <a:lnTo>
                    <a:pt x="557" y="35"/>
                  </a:lnTo>
                  <a:lnTo>
                    <a:pt x="550" y="28"/>
                  </a:lnTo>
                  <a:lnTo>
                    <a:pt x="527" y="21"/>
                  </a:lnTo>
                  <a:lnTo>
                    <a:pt x="543" y="4"/>
                  </a:lnTo>
                  <a:lnTo>
                    <a:pt x="557" y="0"/>
                  </a:lnTo>
                  <a:lnTo>
                    <a:pt x="587" y="15"/>
                  </a:lnTo>
                  <a:lnTo>
                    <a:pt x="617" y="35"/>
                  </a:lnTo>
                  <a:lnTo>
                    <a:pt x="634" y="35"/>
                  </a:lnTo>
                  <a:lnTo>
                    <a:pt x="655" y="26"/>
                  </a:lnTo>
                  <a:lnTo>
                    <a:pt x="668" y="54"/>
                  </a:lnTo>
                  <a:lnTo>
                    <a:pt x="677" y="65"/>
                  </a:lnTo>
                  <a:lnTo>
                    <a:pt x="675" y="82"/>
                  </a:lnTo>
                  <a:lnTo>
                    <a:pt x="697" y="89"/>
                  </a:lnTo>
                  <a:lnTo>
                    <a:pt x="700" y="106"/>
                  </a:lnTo>
                  <a:lnTo>
                    <a:pt x="710" y="107"/>
                  </a:lnTo>
                  <a:lnTo>
                    <a:pt x="743" y="104"/>
                  </a:lnTo>
                  <a:lnTo>
                    <a:pt x="744" y="117"/>
                  </a:lnTo>
                  <a:lnTo>
                    <a:pt x="756" y="130"/>
                  </a:lnTo>
                  <a:lnTo>
                    <a:pt x="760" y="142"/>
                  </a:lnTo>
                  <a:lnTo>
                    <a:pt x="748" y="152"/>
                  </a:lnTo>
                  <a:lnTo>
                    <a:pt x="748" y="162"/>
                  </a:lnTo>
                  <a:lnTo>
                    <a:pt x="760" y="178"/>
                  </a:lnTo>
                  <a:lnTo>
                    <a:pt x="760" y="203"/>
                  </a:lnTo>
                  <a:lnTo>
                    <a:pt x="762" y="224"/>
                  </a:lnTo>
                  <a:lnTo>
                    <a:pt x="783" y="238"/>
                  </a:lnTo>
                  <a:lnTo>
                    <a:pt x="785" y="254"/>
                  </a:lnTo>
                  <a:lnTo>
                    <a:pt x="798" y="267"/>
                  </a:lnTo>
                  <a:lnTo>
                    <a:pt x="829" y="292"/>
                  </a:lnTo>
                  <a:lnTo>
                    <a:pt x="841" y="307"/>
                  </a:lnTo>
                  <a:lnTo>
                    <a:pt x="843" y="323"/>
                  </a:lnTo>
                  <a:lnTo>
                    <a:pt x="843" y="338"/>
                  </a:lnTo>
                  <a:lnTo>
                    <a:pt x="848" y="355"/>
                  </a:lnTo>
                  <a:lnTo>
                    <a:pt x="844" y="372"/>
                  </a:lnTo>
                  <a:lnTo>
                    <a:pt x="857" y="389"/>
                  </a:lnTo>
                  <a:lnTo>
                    <a:pt x="830" y="398"/>
                  </a:lnTo>
                  <a:lnTo>
                    <a:pt x="818" y="401"/>
                  </a:lnTo>
                  <a:lnTo>
                    <a:pt x="803" y="401"/>
                  </a:lnTo>
                  <a:lnTo>
                    <a:pt x="809" y="452"/>
                  </a:lnTo>
                  <a:lnTo>
                    <a:pt x="805" y="463"/>
                  </a:lnTo>
                  <a:lnTo>
                    <a:pt x="790" y="463"/>
                  </a:lnTo>
                  <a:lnTo>
                    <a:pt x="778" y="479"/>
                  </a:lnTo>
                  <a:lnTo>
                    <a:pt x="760" y="488"/>
                  </a:lnTo>
                  <a:lnTo>
                    <a:pt x="714" y="492"/>
                  </a:lnTo>
                  <a:lnTo>
                    <a:pt x="714" y="514"/>
                  </a:lnTo>
                  <a:lnTo>
                    <a:pt x="751" y="596"/>
                  </a:lnTo>
                  <a:lnTo>
                    <a:pt x="755" y="639"/>
                  </a:lnTo>
                  <a:lnTo>
                    <a:pt x="752" y="662"/>
                  </a:lnTo>
                  <a:lnTo>
                    <a:pt x="748" y="684"/>
                  </a:lnTo>
                  <a:lnTo>
                    <a:pt x="752" y="704"/>
                  </a:lnTo>
                  <a:lnTo>
                    <a:pt x="751" y="725"/>
                  </a:lnTo>
                  <a:lnTo>
                    <a:pt x="751" y="745"/>
                  </a:lnTo>
                  <a:lnTo>
                    <a:pt x="762" y="765"/>
                  </a:lnTo>
                  <a:lnTo>
                    <a:pt x="755" y="774"/>
                  </a:lnTo>
                  <a:lnTo>
                    <a:pt x="740" y="775"/>
                  </a:lnTo>
                  <a:lnTo>
                    <a:pt x="726" y="777"/>
                  </a:lnTo>
                  <a:lnTo>
                    <a:pt x="714" y="786"/>
                  </a:lnTo>
                  <a:lnTo>
                    <a:pt x="688" y="781"/>
                  </a:lnTo>
                  <a:lnTo>
                    <a:pt x="669" y="790"/>
                  </a:lnTo>
                  <a:lnTo>
                    <a:pt x="652" y="804"/>
                  </a:lnTo>
                  <a:lnTo>
                    <a:pt x="639" y="809"/>
                  </a:lnTo>
                  <a:lnTo>
                    <a:pt x="621" y="809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78600" y="5814720"/>
              <a:ext cx="219240" cy="203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7880" y="559116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ünc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2080" y="449568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nkf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43720" y="4687920"/>
              <a:ext cx="144360" cy="129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3440" y="281304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mbu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03880" y="2720880"/>
              <a:ext cx="144720" cy="13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7000" y="527688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ttg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86640" y="5502240"/>
              <a:ext cx="144360" cy="129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440" y="3425760"/>
              <a:ext cx="144360" cy="13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8120" y="317160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nn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686480" y="3768480"/>
              <a:ext cx="1231560" cy="515880"/>
              <a:chOff x="4686480" y="3768480"/>
              <a:chExt cx="1231560" cy="515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686480" y="3892320"/>
                <a:ext cx="144360" cy="134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37f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2880" y="4149360"/>
                <a:ext cx="144720" cy="135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a8c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76920" y="3997080"/>
                <a:ext cx="144360" cy="134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a8c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57840" y="3768480"/>
                <a:ext cx="106020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üsseldorf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054760" y="3952800"/>
              <a:ext cx="10605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öln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10200" y="4117680"/>
              <a:ext cx="10605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nn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00280" y="2921040"/>
            <a:ext cx="4233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d&amp;m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design &amp;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sform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engesell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ünd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är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p Gemini Ernst &amp; Young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4C0-A0DE-410E-B15B-BED6EE3AC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elder von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90680" y="2349360"/>
            <a:ext cx="6473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icklung von Individualsoftware, die für einen bestimmten Kunden maßgeschneidert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 und Bereich der Lösung sind nicht festgelegt (technische, betriebliche oder Finanz-IT-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ingesetzte Technologie hängt von den Anforderungen des Knuden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kompetenz bei der Durchführung und dem Management von großen IT-Pro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Produ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300-F1E6-4ECB-BC5E-EC9B753AF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762120" y="1500120"/>
            <a:ext cx="7619400" cy="4937040"/>
            <a:chOff x="762120" y="1500120"/>
            <a:chExt cx="7619400" cy="4937040"/>
          </a:xfrm>
        </p:grpSpPr>
        <p:sp>
          <p:nvSpPr>
            <p:cNvPr id="237" name=""/>
            <p:cNvSpPr/>
            <p:nvPr/>
          </p:nvSpPr>
          <p:spPr>
            <a:xfrm>
              <a:off x="771480" y="1500120"/>
              <a:ext cx="7606800" cy="4937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63560" y="454500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240" y="4925880"/>
              <a:ext cx="7608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120" y="5307120"/>
              <a:ext cx="761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568656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560" y="6066000"/>
              <a:ext cx="761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66800" y="4161960"/>
              <a:ext cx="761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3560" y="3781440"/>
              <a:ext cx="761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63560" y="3398400"/>
              <a:ext cx="7611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3560" y="3017520"/>
              <a:ext cx="7612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65000" y="263700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1480" y="2257560"/>
              <a:ext cx="760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5000" y="1874880"/>
              <a:ext cx="7616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1996920" y="1467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718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482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2228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297480" y="1467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081240"/>
            <a:ext cx="990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476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116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3612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5024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4248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1420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1112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38960"/>
            <a:ext cx="76197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61760" y="1494000"/>
            <a:ext cx="6120" cy="494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89880" y="2859120"/>
            <a:ext cx="315720" cy="35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21240" y="4002120"/>
            <a:ext cx="315720" cy="243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94400" y="3427560"/>
            <a:ext cx="315720" cy="30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91480" y="2595600"/>
            <a:ext cx="315720" cy="38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490760"/>
            <a:ext cx="761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943520"/>
            <a:ext cx="316080" cy="14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5403960"/>
            <a:ext cx="316080" cy="102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97400" y="4384800"/>
            <a:ext cx="315720" cy="20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55520" y="5021280"/>
            <a:ext cx="316080" cy="1411200"/>
            <a:chOff x="1055520" y="5021280"/>
            <a:chExt cx="316080" cy="1411200"/>
          </a:xfrm>
        </p:grpSpPr>
        <p:sp>
          <p:nvSpPr>
            <p:cNvPr id="274" name=""/>
            <p:cNvSpPr/>
            <p:nvPr/>
          </p:nvSpPr>
          <p:spPr>
            <a:xfrm>
              <a:off x="1055520" y="5021280"/>
              <a:ext cx="316080" cy="141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85400" y="5075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120760" y="4714920"/>
            <a:ext cx="316080" cy="1717560"/>
            <a:chOff x="2120760" y="4714920"/>
            <a:chExt cx="316080" cy="1717560"/>
          </a:xfrm>
        </p:grpSpPr>
        <p:sp>
          <p:nvSpPr>
            <p:cNvPr id="277" name=""/>
            <p:cNvSpPr/>
            <p:nvPr/>
          </p:nvSpPr>
          <p:spPr>
            <a:xfrm>
              <a:off x="2120760" y="4714920"/>
              <a:ext cx="316080" cy="1717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4752720"/>
              <a:ext cx="287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181320" y="4278240"/>
            <a:ext cx="316080" cy="2154240"/>
            <a:chOff x="3181320" y="4278240"/>
            <a:chExt cx="316080" cy="2154240"/>
          </a:xfrm>
        </p:grpSpPr>
        <p:sp>
          <p:nvSpPr>
            <p:cNvPr id="280" name=""/>
            <p:cNvSpPr/>
            <p:nvPr/>
          </p:nvSpPr>
          <p:spPr>
            <a:xfrm>
              <a:off x="3181320" y="4278240"/>
              <a:ext cx="316080" cy="2154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17320" y="4362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03720" y="3825720"/>
            <a:ext cx="315720" cy="2606760"/>
            <a:chOff x="4203720" y="3825720"/>
            <a:chExt cx="315720" cy="2606760"/>
          </a:xfrm>
        </p:grpSpPr>
        <p:sp>
          <p:nvSpPr>
            <p:cNvPr id="283" name=""/>
            <p:cNvSpPr/>
            <p:nvPr/>
          </p:nvSpPr>
          <p:spPr>
            <a:xfrm>
              <a:off x="4203720" y="3825720"/>
              <a:ext cx="315720" cy="2606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28560" y="3909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76880" y="3206880"/>
            <a:ext cx="315720" cy="3225600"/>
            <a:chOff x="5276880" y="3206880"/>
            <a:chExt cx="315720" cy="3225600"/>
          </a:xfrm>
        </p:grpSpPr>
        <p:sp>
          <p:nvSpPr>
            <p:cNvPr id="286" name=""/>
            <p:cNvSpPr/>
            <p:nvPr/>
          </p:nvSpPr>
          <p:spPr>
            <a:xfrm>
              <a:off x="5276880" y="3206880"/>
              <a:ext cx="315720" cy="322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06400" y="3288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372360" y="2859120"/>
            <a:ext cx="315720" cy="3573360"/>
            <a:chOff x="6372360" y="2859120"/>
            <a:chExt cx="315720" cy="3573360"/>
          </a:xfrm>
        </p:grpSpPr>
        <p:sp>
          <p:nvSpPr>
            <p:cNvPr id="289" name=""/>
            <p:cNvSpPr/>
            <p:nvPr/>
          </p:nvSpPr>
          <p:spPr>
            <a:xfrm>
              <a:off x="6372360" y="2859120"/>
              <a:ext cx="315720" cy="3573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1880" y="2905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473960" y="2428920"/>
            <a:ext cx="316080" cy="4003560"/>
            <a:chOff x="7473960" y="2428920"/>
            <a:chExt cx="316080" cy="4003560"/>
          </a:xfrm>
        </p:grpSpPr>
        <p:sp>
          <p:nvSpPr>
            <p:cNvPr id="292" name=""/>
            <p:cNvSpPr/>
            <p:nvPr/>
          </p:nvSpPr>
          <p:spPr>
            <a:xfrm>
              <a:off x="7473960" y="2428920"/>
              <a:ext cx="316080" cy="400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00240" y="2516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27080" y="3083040"/>
            <a:ext cx="150840" cy="15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86280" y="3022560"/>
            <a:ext cx="185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atz in Mio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3560" y="270972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90600" y="2643120"/>
            <a:ext cx="11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30240" y="1295280"/>
            <a:ext cx="5454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 und Um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D2F-45CB-4298-B848-9DACB4B5C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kannte 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20560" y="2260080"/>
            <a:ext cx="7912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068480" indent="-3355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besitzt heute in ca. 800 Köpfen hervorragendes (spezialisiertes) Wissen, dieses Wissen ist a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üchtig” bei steigender Mitarbeiter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immer optimal auf Projekte verte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ell eine knapp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8480" indent="-3355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e ändern s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Komplexität nimmt 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laufzeiten werden immer kür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pruch an Qualität und Sicherheit bleibt 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viduallösungen stehen immer stärker im Wettbewerb mit Standardlö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7AC-4A0F-4308-B2F5-C029669DB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sd&amp;m Wissensmana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514600"/>
            <a:ext cx="56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09044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fügbares Know-how durch Personen und technische Mittel in die Projekte bringen, da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in Entwicklung und Beratung kontinuierlich besser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rfolg von sd&amp;m von Einzelpersonen unabhängiger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 Informationen von außen nach innen getrag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248520" y="2324160"/>
          <a:ext cx="199368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324160"/>
                    <a:ext cx="199368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8AF-7E35-4DE4-AA39-75A834F7B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5 Säulen des Wissensmana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117440" y="1968480"/>
            <a:ext cx="7088040" cy="4573440"/>
            <a:chOff x="1117440" y="1968480"/>
            <a:chExt cx="7088040" cy="4573440"/>
          </a:xfrm>
        </p:grpSpPr>
        <p:sp>
          <p:nvSpPr>
            <p:cNvPr id="311" name=""/>
            <p:cNvSpPr/>
            <p:nvPr/>
          </p:nvSpPr>
          <p:spPr>
            <a:xfrm>
              <a:off x="5227200" y="2268360"/>
              <a:ext cx="885960" cy="45720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0920" y="5811840"/>
              <a:ext cx="6008760" cy="70164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18920" y="3878280"/>
              <a:ext cx="795240" cy="210960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35080" y="3830400"/>
              <a:ext cx="798480" cy="211140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59160" y="3830400"/>
              <a:ext cx="795240" cy="211140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08280" y="3566880"/>
              <a:ext cx="395280" cy="28584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03360" y="3579840"/>
              <a:ext cx="331920" cy="32040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5480" y="3589200"/>
              <a:ext cx="312480" cy="2952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79240" y="4227480"/>
              <a:ext cx="552600" cy="176364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73080" y="4194000"/>
              <a:ext cx="547560" cy="176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09760" y="4222440"/>
              <a:ext cx="552600" cy="176544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1040" y="4194000"/>
              <a:ext cx="547920" cy="176364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87240" y="3627360"/>
              <a:ext cx="339840" cy="2635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12640" y="2806560"/>
              <a:ext cx="3274920" cy="1080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117440" y="1968480"/>
              <a:ext cx="7088040" cy="1939680"/>
              <a:chOff x="1117440" y="1968480"/>
              <a:chExt cx="7088040" cy="1939680"/>
            </a:xfrm>
          </p:grpSpPr>
          <p:sp>
            <p:nvSpPr>
              <p:cNvPr id="326" name=""/>
              <p:cNvSpPr/>
              <p:nvPr/>
            </p:nvSpPr>
            <p:spPr>
              <a:xfrm>
                <a:off x="1265040" y="1968480"/>
                <a:ext cx="6940440" cy="1939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18840" y="3101760"/>
                <a:ext cx="6158160" cy="2509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92160" y="2382840"/>
                <a:ext cx="3778200" cy="51912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17440" y="1982520"/>
                <a:ext cx="7088040" cy="122868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63560" y="2199960"/>
                <a:ext cx="4344840" cy="6987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06240" y="3084480"/>
                <a:ext cx="6195960" cy="59364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541160" y="3605040"/>
              <a:ext cx="1049400" cy="3142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50880" y="3873240"/>
              <a:ext cx="934920" cy="39384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90560" y="4213080"/>
              <a:ext cx="101520" cy="150192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71280" y="4236840"/>
              <a:ext cx="119160" cy="1498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64960" y="4252680"/>
              <a:ext cx="122400" cy="143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99840" y="4243320"/>
              <a:ext cx="755640" cy="15778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96880" y="5697360"/>
              <a:ext cx="998280" cy="30636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58760" y="3566880"/>
              <a:ext cx="1054080" cy="31428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71360" y="3836880"/>
              <a:ext cx="933480" cy="3920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11040" y="4174920"/>
              <a:ext cx="106560" cy="150336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93920" y="4200480"/>
              <a:ext cx="117360" cy="150012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90480" y="4213080"/>
              <a:ext cx="120960" cy="143820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22480" y="4205160"/>
              <a:ext cx="760320" cy="157644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19160" y="5661000"/>
              <a:ext cx="993600" cy="30312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51160" y="3587760"/>
              <a:ext cx="1050840" cy="31428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63760" y="3857400"/>
              <a:ext cx="936720" cy="397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03440" y="4200480"/>
              <a:ext cx="104760" cy="1498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82720" y="4221000"/>
              <a:ext cx="120600" cy="150012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78200" y="4233600"/>
              <a:ext cx="123840" cy="143856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14520" y="4225680"/>
              <a:ext cx="754200" cy="157644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08320" y="5680080"/>
              <a:ext cx="996840" cy="30456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93960" y="3862080"/>
              <a:ext cx="795600" cy="211140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98920" y="3598560"/>
              <a:ext cx="1049400" cy="3146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08280" y="3868560"/>
              <a:ext cx="936720" cy="39384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44720" y="4206600"/>
              <a:ext cx="106560" cy="150516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29040" y="4232160"/>
              <a:ext cx="119160" cy="1498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24160" y="4244760"/>
              <a:ext cx="122400" cy="14367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59040" y="4240080"/>
              <a:ext cx="758880" cy="157320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54280" y="5690880"/>
              <a:ext cx="995400" cy="30492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7800" y="5932440"/>
              <a:ext cx="6189480" cy="60948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4840" y="5962680"/>
              <a:ext cx="149400" cy="5792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37880" y="3224160"/>
              <a:ext cx="196920" cy="24120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5720" y="3235320"/>
              <a:ext cx="195120" cy="2379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31760" y="3251160"/>
              <a:ext cx="196920" cy="2332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7800" y="3260520"/>
              <a:ext cx="196920" cy="23832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52640" y="3252600"/>
              <a:ext cx="196920" cy="24120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27120" y="3251160"/>
              <a:ext cx="195480" cy="23652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0160" y="3246120"/>
              <a:ext cx="196920" cy="23832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5000" y="324144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494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34920" y="6200640"/>
              <a:ext cx="452520" cy="30312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26960" y="6195960"/>
              <a:ext cx="453960" cy="30312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20800" y="6188040"/>
              <a:ext cx="455400" cy="3016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1040" y="6180120"/>
              <a:ext cx="455760" cy="30312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4880" y="6175080"/>
              <a:ext cx="457200" cy="29844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1960" y="6168960"/>
              <a:ext cx="448920" cy="3016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0760" y="6159240"/>
              <a:ext cx="452520" cy="30348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2800" y="6154560"/>
              <a:ext cx="453960" cy="30312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71600" y="6148080"/>
              <a:ext cx="460440" cy="3016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6880" y="6143400"/>
              <a:ext cx="455760" cy="3002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27600" y="3644640"/>
              <a:ext cx="968400" cy="2389320"/>
              <a:chOff x="6627600" y="3644640"/>
              <a:chExt cx="968400" cy="2389320"/>
            </a:xfrm>
          </p:grpSpPr>
          <p:sp>
            <p:nvSpPr>
              <p:cNvPr id="383" name=""/>
              <p:cNvSpPr/>
              <p:nvPr/>
            </p:nvSpPr>
            <p:spPr>
              <a:xfrm>
                <a:off x="6714720" y="3909960"/>
                <a:ext cx="735120" cy="212400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27600" y="3644640"/>
                <a:ext cx="968400" cy="31608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35520" y="3917880"/>
                <a:ext cx="863640" cy="396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64040" y="4257360"/>
                <a:ext cx="95400" cy="151452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32160" y="4281480"/>
                <a:ext cx="108000" cy="150804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11800" y="4295520"/>
                <a:ext cx="112680" cy="14446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81600" y="4290840"/>
                <a:ext cx="699840" cy="15829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919480" y="6154560"/>
              <a:ext cx="457200" cy="30312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4480" y="6143400"/>
              <a:ext cx="453960" cy="3002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97240" y="6143400"/>
              <a:ext cx="457200" cy="3002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33720" y="5702040"/>
              <a:ext cx="885960" cy="3016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066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638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45120" y="324000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26000" y="324000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717640" y="242568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rnend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46040" y="440676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60640" y="440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93960" y="4863960"/>
            <a:ext cx="106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56280" y="4863960"/>
            <a:ext cx="14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22960" y="440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3F3-DD98-4670-B52C-CDF1BEE6E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schen: Ausgangspunk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920" y="393840"/>
            <a:ext cx="1143000" cy="838080"/>
            <a:chOff x="304920" y="393840"/>
            <a:chExt cx="1143000" cy="838080"/>
          </a:xfrm>
        </p:grpSpPr>
        <p:sp>
          <p:nvSpPr>
            <p:cNvPr id="406" name=""/>
            <p:cNvSpPr/>
            <p:nvPr/>
          </p:nvSpPr>
          <p:spPr>
            <a:xfrm>
              <a:off x="967680" y="448920"/>
              <a:ext cx="142560" cy="8352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280" y="1098360"/>
              <a:ext cx="96912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5560" y="743760"/>
              <a:ext cx="128160" cy="38628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960" y="735120"/>
              <a:ext cx="128520" cy="38664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1440" y="73512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96840" y="686880"/>
              <a:ext cx="6372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2440" y="689040"/>
              <a:ext cx="532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480" y="690840"/>
              <a:ext cx="500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3240" y="80784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040" y="801720"/>
              <a:ext cx="87840" cy="32292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7320" y="80676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87840" y="801720"/>
              <a:ext cx="88200" cy="32328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520" y="697680"/>
              <a:ext cx="5436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7520" y="547200"/>
              <a:ext cx="52812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304920" y="393840"/>
              <a:ext cx="1143000" cy="355680"/>
              <a:chOff x="304920" y="393840"/>
              <a:chExt cx="1143000" cy="355680"/>
            </a:xfrm>
          </p:grpSpPr>
          <p:sp>
            <p:nvSpPr>
              <p:cNvPr id="421" name=""/>
              <p:cNvSpPr/>
              <p:nvPr/>
            </p:nvSpPr>
            <p:spPr>
              <a:xfrm>
                <a:off x="328680" y="393840"/>
                <a:ext cx="1119240" cy="355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93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49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04920" y="396360"/>
                <a:ext cx="114300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7840" y="436320"/>
                <a:ext cx="7005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75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72960" y="69372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4760" y="743040"/>
              <a:ext cx="15048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7080" y="805320"/>
              <a:ext cx="16200" cy="27504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24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560" y="812520"/>
              <a:ext cx="19440" cy="26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2680" y="810720"/>
              <a:ext cx="12168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6120" y="1077480"/>
              <a:ext cx="16092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5720" y="686880"/>
              <a:ext cx="16992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7520" y="736200"/>
              <a:ext cx="15048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200" y="79812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720" y="802800"/>
              <a:ext cx="1872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1400" y="80532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5800" y="803880"/>
              <a:ext cx="122400" cy="28872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9240" y="1070640"/>
              <a:ext cx="1598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4160" y="690480"/>
              <a:ext cx="16956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6320" y="740160"/>
              <a:ext cx="15084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8640" y="802800"/>
              <a:ext cx="1692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7800" y="806400"/>
              <a:ext cx="19080" cy="27504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9120" y="808920"/>
              <a:ext cx="1980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240" y="807480"/>
              <a:ext cx="12168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6960" y="1073880"/>
              <a:ext cx="1605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10520" y="74088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5400" y="69264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6840" y="741960"/>
              <a:ext cx="15084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18800" y="80388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48680" y="80856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0000" y="811080"/>
              <a:ext cx="19440" cy="2631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05120" y="810000"/>
              <a:ext cx="122040" cy="28836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88200" y="1076040"/>
              <a:ext cx="1602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2880" y="1120320"/>
              <a:ext cx="9982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1080" y="1125720"/>
              <a:ext cx="23760" cy="1058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7040" y="623880"/>
              <a:ext cx="3168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400" y="626040"/>
              <a:ext cx="3132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1400" y="628920"/>
              <a:ext cx="3168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400" y="630360"/>
              <a:ext cx="3168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9720" y="629280"/>
              <a:ext cx="31680" cy="4392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6400" y="628920"/>
              <a:ext cx="3132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2720" y="628200"/>
              <a:ext cx="31680" cy="4320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904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3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0480" y="11692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384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7200" y="1167120"/>
              <a:ext cx="7308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0200" y="1165680"/>
              <a:ext cx="7344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3920" y="1164960"/>
              <a:ext cx="73440" cy="5436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000" y="1163520"/>
              <a:ext cx="7236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280" y="1161720"/>
              <a:ext cx="7308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3640" y="116100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26280" y="1159920"/>
              <a:ext cx="7416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193760" y="700920"/>
              <a:ext cx="155880" cy="437760"/>
              <a:chOff x="1193760" y="700920"/>
              <a:chExt cx="155880" cy="437760"/>
            </a:xfrm>
          </p:grpSpPr>
          <p:sp>
            <p:nvSpPr>
              <p:cNvPr id="478" name=""/>
              <p:cNvSpPr/>
              <p:nvPr/>
            </p:nvSpPr>
            <p:spPr>
              <a:xfrm>
                <a:off x="1207800" y="749520"/>
                <a:ext cx="118440" cy="3891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193760" y="700920"/>
                <a:ext cx="15588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94840" y="750960"/>
                <a:ext cx="13896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215720" y="813240"/>
                <a:ext cx="15120" cy="27756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42720" y="817560"/>
                <a:ext cx="17280" cy="27648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71520" y="820080"/>
                <a:ext cx="18000" cy="26460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02400" y="819360"/>
                <a:ext cx="112680" cy="29016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079280" y="1161000"/>
              <a:ext cx="7344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44440" y="1159200"/>
              <a:ext cx="73080" cy="547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696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94840" y="1078200"/>
              <a:ext cx="14256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095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33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448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0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1447560" cy="13190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8080" y="2666520"/>
            <a:ext cx="78199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ste Voraussetzung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i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 zu teilen und zu vermit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e Tü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ffeekü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v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Proje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kes Wachstum mit entsprechenden Prob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48B-A6BC-48F4-BC0E-9EE668291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06:42Z</dcterms:created>
  <dc:creator>sd&amp;m Benutzer</dc:creator>
  <dc:description>sd&amp;m-Präsentationsvorlage
entwickelt von Ernst Denert, Andreas Wittkowski und Hermann Iding
Stand: 19.09.1997
Version: 2.0</dc:description>
  <dc:language>en-US</dc:language>
  <cp:lastModifiedBy>Dr. Klaus von Schierstedt</cp:lastModifiedBy>
  <cp:lastPrinted>2000-05-25T13:06:15Z</cp:lastPrinted>
  <dcterms:modified xsi:type="dcterms:W3CDTF">2001-03-19T12:20:42Z</dcterms:modified>
  <cp:revision>200</cp:revision>
  <dc:subject/>
  <dc:title>Kein Folientitel</dc:title>
</cp:coreProperties>
</file>